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98DB4-EA4C-4664-8045-65D7F1A49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AA083-7DF2-43ED-9B31-2C640C0B4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167F6-96F9-4FF7-A57C-721479578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CE782-721C-4F90-9493-36932BE0B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190F8-D1CA-465B-A140-D67F153A1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4127-7D2D-467C-94B3-7285F089A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A693F-DB5F-40F0-9A50-4F2E2BA7C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587CC-56AD-4081-A95A-CB4808E5F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03F3A-B101-4A9E-BA2E-B2D269C6E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9F3F7-4A23-4F53-A970-137AE0473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F9912-95BB-448D-B562-84B008CFA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5C924-EFAC-4664-9BEC-5054D9FA8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6DC59-566A-4644-BE15-D517F7720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3C9BA-5186-4761-83A5-E3DF66C9A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26C3D-CFD7-41B4-9FA6-A1E350A7F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1F7F2-1B45-4534-B052-CB208513F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06AF7-6830-4800-988E-E4AE3E2DF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B1C09-CF1B-4702-ACF9-954587BC8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A3D8A-A34D-44FA-942B-FA91973A7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D3EE3-5FA4-4750-9BB4-D24F115B6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9DE9F-AC4D-468E-96A9-40B60FD29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D57DF-CDE6-48CA-808C-7AEC11D38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57A0-B38C-4139-B91E-7B2ABC78C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5440-FE47-4F52-966D-2D05A7714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1E6B-E2F4-41C6-A797-740E02662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8533-A481-45D9-AEBE-7C7DDF630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6C21D-AD70-4730-ABFF-BEDD48BCE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DD8AC-70D2-4295-BD92-399F3FE26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01E70-CB6D-4FC9-974E-5A9D3BBEB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A5A97-9336-4612-964D-5544B8004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EEBBC-4143-48B5-92C9-18865B6E9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F4E2F-3E59-411E-929D-191172F3E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ABE2B-0814-49A2-B894-1B71DB03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56D1-1DB6-4367-A580-692D07AED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1F825-B544-45C1-832C-3B6E99B9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C1966-65B7-499A-B6CB-829A11CF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1832C-0D91-460A-B958-D47428AC4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BD0F1-7376-45CB-A0F7-EDFF45AE6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D3210-58E1-49B1-BBA7-6212B6133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A384-EB0B-45BF-9A75-E3FDFDF4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743A-2579-4A6C-AEF5-721A51890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8B16-CAA4-416C-9180-2C9E8A8E0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4EE5-58E8-48E9-9CA3-6B5FA7AEE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9F17-2B19-4DA9-854E-E8107911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E99C-0F32-45AE-A1AD-9634EAA4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EA7F-2884-48B6-89DC-44670580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293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9B800-7EDD-44D3-A117-FA3DAF0749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293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B2DE8-690F-44B4-991C-0806A6A5F7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3: Real Zeroes of Polynomials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ember 14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vide poly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ing by binomials or hig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4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x+6)/(x+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MARTPenAnnotation716"/>
          <p:cNvSpPr/>
          <p:nvPr/>
        </p:nvSpPr>
        <p:spPr>
          <a:xfrm>
            <a:off x="6765840" y="1028880"/>
            <a:ext cx="69840" cy="434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MARTPenAnnotation717"/>
          <p:cNvSpPr/>
          <p:nvPr/>
        </p:nvSpPr>
        <p:spPr>
          <a:xfrm>
            <a:off x="6937200" y="971640"/>
            <a:ext cx="320760" cy="4460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MARTPenAnnotation718"/>
          <p:cNvSpPr/>
          <p:nvPr/>
        </p:nvSpPr>
        <p:spPr>
          <a:xfrm>
            <a:off x="7373880" y="811080"/>
            <a:ext cx="1416240" cy="630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MARTPenAnnotation719"/>
          <p:cNvSpPr/>
          <p:nvPr/>
        </p:nvSpPr>
        <p:spPr>
          <a:xfrm>
            <a:off x="7578720" y="971640"/>
            <a:ext cx="181080" cy="4460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MARTPenAnnotation720"/>
          <p:cNvSpPr/>
          <p:nvPr/>
        </p:nvSpPr>
        <p:spPr>
          <a:xfrm>
            <a:off x="7818480" y="1006560"/>
            <a:ext cx="250920" cy="171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MARTPenAnnotation721"/>
          <p:cNvSpPr/>
          <p:nvPr/>
        </p:nvSpPr>
        <p:spPr>
          <a:xfrm>
            <a:off x="7978680" y="993600"/>
            <a:ext cx="22320" cy="387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MARTPenAnnotation722"/>
          <p:cNvSpPr/>
          <p:nvPr/>
        </p:nvSpPr>
        <p:spPr>
          <a:xfrm>
            <a:off x="8150400" y="971640"/>
            <a:ext cx="261720" cy="479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MARTPenAnnotation723"/>
          <p:cNvSpPr/>
          <p:nvPr/>
        </p:nvSpPr>
        <p:spPr>
          <a:xfrm>
            <a:off x="8275680" y="1200240"/>
            <a:ext cx="331920" cy="21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MARTPenAnnotation724"/>
          <p:cNvSpPr/>
          <p:nvPr/>
        </p:nvSpPr>
        <p:spPr>
          <a:xfrm>
            <a:off x="8607600" y="1211400"/>
            <a:ext cx="2880" cy="360"/>
          </a:xfrm>
          <a:prstGeom prst="pie">
            <a:avLst/>
          </a:prstGeom>
          <a:solidFill>
            <a:srgbClr val="ffcc00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MARTPenAnnotation725"/>
          <p:cNvSpPr/>
          <p:nvPr/>
        </p:nvSpPr>
        <p:spPr>
          <a:xfrm>
            <a:off x="7750080" y="285840"/>
            <a:ext cx="308160" cy="353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MARTPenAnnotation726"/>
          <p:cNvSpPr/>
          <p:nvPr/>
        </p:nvSpPr>
        <p:spPr>
          <a:xfrm>
            <a:off x="7583400" y="1565280"/>
            <a:ext cx="165240" cy="342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MARTPenAnnotation727"/>
          <p:cNvSpPr/>
          <p:nvPr/>
        </p:nvSpPr>
        <p:spPr>
          <a:xfrm>
            <a:off x="7864560" y="1600200"/>
            <a:ext cx="204840" cy="260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MARTPenAnnotation728"/>
          <p:cNvSpPr/>
          <p:nvPr/>
        </p:nvSpPr>
        <p:spPr>
          <a:xfrm>
            <a:off x="7236000" y="1782720"/>
            <a:ext cx="250560" cy="11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MARTPenAnnotation729"/>
          <p:cNvSpPr/>
          <p:nvPr/>
        </p:nvSpPr>
        <p:spPr>
          <a:xfrm>
            <a:off x="7372440" y="2035080"/>
            <a:ext cx="811080" cy="22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MARTPenAnnotation730"/>
          <p:cNvSpPr/>
          <p:nvPr/>
        </p:nvSpPr>
        <p:spPr>
          <a:xfrm>
            <a:off x="7891560" y="2182680"/>
            <a:ext cx="234720" cy="1256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MARTPenAnnotation731"/>
          <p:cNvSpPr/>
          <p:nvPr/>
        </p:nvSpPr>
        <p:spPr>
          <a:xfrm>
            <a:off x="8058240" y="2160720"/>
            <a:ext cx="44280" cy="347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MARTPenAnnotation732"/>
          <p:cNvSpPr/>
          <p:nvPr/>
        </p:nvSpPr>
        <p:spPr>
          <a:xfrm>
            <a:off x="8194680" y="2116080"/>
            <a:ext cx="235080" cy="420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MARTPenAnnotation733"/>
          <p:cNvSpPr/>
          <p:nvPr/>
        </p:nvSpPr>
        <p:spPr>
          <a:xfrm>
            <a:off x="8308800" y="2297160"/>
            <a:ext cx="252720" cy="57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MARTPenAnnotation734"/>
          <p:cNvSpPr/>
          <p:nvPr/>
        </p:nvSpPr>
        <p:spPr>
          <a:xfrm>
            <a:off x="8194680" y="343080"/>
            <a:ext cx="258840" cy="320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MARTPenAnnotation735"/>
          <p:cNvSpPr/>
          <p:nvPr/>
        </p:nvSpPr>
        <p:spPr>
          <a:xfrm>
            <a:off x="7943760" y="2664000"/>
            <a:ext cx="193680" cy="318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MARTPenAnnotation736"/>
          <p:cNvSpPr/>
          <p:nvPr/>
        </p:nvSpPr>
        <p:spPr>
          <a:xfrm>
            <a:off x="8194680" y="2617920"/>
            <a:ext cx="217440" cy="3315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MARTPenAnnotation737"/>
          <p:cNvSpPr/>
          <p:nvPr/>
        </p:nvSpPr>
        <p:spPr>
          <a:xfrm>
            <a:off x="7635960" y="2778120"/>
            <a:ext cx="261720" cy="22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MARTPenAnnotation738"/>
          <p:cNvSpPr/>
          <p:nvPr/>
        </p:nvSpPr>
        <p:spPr>
          <a:xfrm>
            <a:off x="7772400" y="3063960"/>
            <a:ext cx="777960" cy="44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MARTPenAnnotation739"/>
          <p:cNvSpPr/>
          <p:nvPr/>
        </p:nvSpPr>
        <p:spPr>
          <a:xfrm>
            <a:off x="8035920" y="3200400"/>
            <a:ext cx="33480" cy="353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MARTPenAnnotation740"/>
          <p:cNvSpPr/>
          <p:nvPr/>
        </p:nvSpPr>
        <p:spPr>
          <a:xfrm>
            <a:off x="8251920" y="3189240"/>
            <a:ext cx="23760" cy="308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MARTPenAnnotation741"/>
          <p:cNvSpPr/>
          <p:nvPr/>
        </p:nvSpPr>
        <p:spPr>
          <a:xfrm>
            <a:off x="8686800" y="222120"/>
            <a:ext cx="22320" cy="223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MARTPenAnnotation742"/>
          <p:cNvSpPr/>
          <p:nvPr/>
        </p:nvSpPr>
        <p:spPr>
          <a:xfrm>
            <a:off x="8812080" y="182520"/>
            <a:ext cx="11160" cy="252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MARTPenAnnotation743"/>
          <p:cNvSpPr/>
          <p:nvPr/>
        </p:nvSpPr>
        <p:spPr>
          <a:xfrm>
            <a:off x="8561520" y="514440"/>
            <a:ext cx="446040" cy="34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MARTPenAnnotation744"/>
          <p:cNvSpPr/>
          <p:nvPr/>
        </p:nvSpPr>
        <p:spPr>
          <a:xfrm>
            <a:off x="8686800" y="606600"/>
            <a:ext cx="22320" cy="193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MARTPenAnnotation745"/>
          <p:cNvSpPr/>
          <p:nvPr/>
        </p:nvSpPr>
        <p:spPr>
          <a:xfrm>
            <a:off x="8766000" y="606600"/>
            <a:ext cx="263880" cy="171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MARTPenAnnotation746"/>
          <p:cNvSpPr/>
          <p:nvPr/>
        </p:nvSpPr>
        <p:spPr>
          <a:xfrm>
            <a:off x="1222200" y="3189240"/>
            <a:ext cx="320760" cy="2811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MARTPenAnnotation747"/>
          <p:cNvSpPr/>
          <p:nvPr/>
        </p:nvSpPr>
        <p:spPr>
          <a:xfrm>
            <a:off x="1143000" y="3165480"/>
            <a:ext cx="365040" cy="3556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MARTPenAnnotation748"/>
          <p:cNvSpPr/>
          <p:nvPr/>
        </p:nvSpPr>
        <p:spPr>
          <a:xfrm>
            <a:off x="1782720" y="3257640"/>
            <a:ext cx="285840" cy="219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MARTPenAnnotation749"/>
          <p:cNvSpPr/>
          <p:nvPr/>
        </p:nvSpPr>
        <p:spPr>
          <a:xfrm>
            <a:off x="1828800" y="3132000"/>
            <a:ext cx="57240" cy="3715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MARTPenAnnotation750"/>
          <p:cNvSpPr/>
          <p:nvPr/>
        </p:nvSpPr>
        <p:spPr>
          <a:xfrm>
            <a:off x="2206800" y="3006720"/>
            <a:ext cx="56880" cy="444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MARTPenAnnotation751"/>
          <p:cNvSpPr/>
          <p:nvPr/>
        </p:nvSpPr>
        <p:spPr>
          <a:xfrm>
            <a:off x="2525760" y="3017880"/>
            <a:ext cx="81000" cy="5364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MARTPenAnnotation752"/>
          <p:cNvSpPr/>
          <p:nvPr/>
        </p:nvSpPr>
        <p:spPr>
          <a:xfrm>
            <a:off x="2583000" y="3063960"/>
            <a:ext cx="3417840" cy="147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MARTPenAnnotation753"/>
          <p:cNvSpPr/>
          <p:nvPr/>
        </p:nvSpPr>
        <p:spPr>
          <a:xfrm>
            <a:off x="2755800" y="3189240"/>
            <a:ext cx="387360" cy="331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MARTPenAnnotation754"/>
          <p:cNvSpPr/>
          <p:nvPr/>
        </p:nvSpPr>
        <p:spPr>
          <a:xfrm>
            <a:off x="3178080" y="3279600"/>
            <a:ext cx="250920" cy="2638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MARTPenAnnotation755"/>
          <p:cNvSpPr/>
          <p:nvPr/>
        </p:nvSpPr>
        <p:spPr>
          <a:xfrm>
            <a:off x="3189240" y="3268800"/>
            <a:ext cx="204840" cy="2854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MARTPenAnnotation756"/>
          <p:cNvSpPr/>
          <p:nvPr/>
        </p:nvSpPr>
        <p:spPr>
          <a:xfrm>
            <a:off x="3521160" y="3189240"/>
            <a:ext cx="215640" cy="1936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MARTPenAnnotation757"/>
          <p:cNvSpPr/>
          <p:nvPr/>
        </p:nvSpPr>
        <p:spPr>
          <a:xfrm>
            <a:off x="3908520" y="3394080"/>
            <a:ext cx="217440" cy="12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MARTPenAnnotation758"/>
          <p:cNvSpPr/>
          <p:nvPr/>
        </p:nvSpPr>
        <p:spPr>
          <a:xfrm>
            <a:off x="4137120" y="3406680"/>
            <a:ext cx="4680" cy="360"/>
          </a:xfrm>
          <a:prstGeom prst="pie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MARTPenAnnotation759"/>
          <p:cNvSpPr/>
          <p:nvPr/>
        </p:nvSpPr>
        <p:spPr>
          <a:xfrm>
            <a:off x="3978360" y="3292560"/>
            <a:ext cx="57240" cy="2858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MARTPenAnnotation760"/>
          <p:cNvSpPr/>
          <p:nvPr/>
        </p:nvSpPr>
        <p:spPr>
          <a:xfrm>
            <a:off x="4218120" y="3178080"/>
            <a:ext cx="274680" cy="1825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MARTPenAnnotation761"/>
          <p:cNvSpPr/>
          <p:nvPr/>
        </p:nvSpPr>
        <p:spPr>
          <a:xfrm>
            <a:off x="4314960" y="3222720"/>
            <a:ext cx="131760" cy="3999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MARTPenAnnotation762"/>
          <p:cNvSpPr/>
          <p:nvPr/>
        </p:nvSpPr>
        <p:spPr>
          <a:xfrm>
            <a:off x="4492800" y="3279600"/>
            <a:ext cx="261720" cy="309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MARTPenAnnotation763"/>
          <p:cNvSpPr/>
          <p:nvPr/>
        </p:nvSpPr>
        <p:spPr>
          <a:xfrm>
            <a:off x="4435560" y="3394080"/>
            <a:ext cx="228600" cy="2174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MARTPenAnnotation764"/>
          <p:cNvSpPr/>
          <p:nvPr/>
        </p:nvSpPr>
        <p:spPr>
          <a:xfrm>
            <a:off x="4732200" y="3257640"/>
            <a:ext cx="239760" cy="1364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MARTPenAnnotation765"/>
          <p:cNvSpPr/>
          <p:nvPr/>
        </p:nvSpPr>
        <p:spPr>
          <a:xfrm>
            <a:off x="4925880" y="3475080"/>
            <a:ext cx="297000" cy="223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MARTPenAnnotation766"/>
          <p:cNvSpPr/>
          <p:nvPr/>
        </p:nvSpPr>
        <p:spPr>
          <a:xfrm>
            <a:off x="5280120" y="3349800"/>
            <a:ext cx="309600" cy="2728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MARTPenAnnotation767"/>
          <p:cNvSpPr/>
          <p:nvPr/>
        </p:nvSpPr>
        <p:spPr>
          <a:xfrm>
            <a:off x="5189400" y="3417840"/>
            <a:ext cx="411480" cy="2174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MARTPenAnnotation768"/>
          <p:cNvSpPr/>
          <p:nvPr/>
        </p:nvSpPr>
        <p:spPr>
          <a:xfrm>
            <a:off x="5680080" y="3451320"/>
            <a:ext cx="285840" cy="12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MARTPenAnnotation769"/>
          <p:cNvSpPr/>
          <p:nvPr/>
        </p:nvSpPr>
        <p:spPr>
          <a:xfrm>
            <a:off x="5807160" y="3360600"/>
            <a:ext cx="44280" cy="239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MARTPenAnnotation770"/>
          <p:cNvSpPr/>
          <p:nvPr/>
        </p:nvSpPr>
        <p:spPr>
          <a:xfrm>
            <a:off x="6046920" y="3235320"/>
            <a:ext cx="261720" cy="3985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MARTPenAnnotation771"/>
          <p:cNvSpPr/>
          <p:nvPr/>
        </p:nvSpPr>
        <p:spPr>
          <a:xfrm>
            <a:off x="5932440" y="3211560"/>
            <a:ext cx="628560" cy="23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MARTPenAnnotation772"/>
          <p:cNvSpPr/>
          <p:nvPr/>
        </p:nvSpPr>
        <p:spPr>
          <a:xfrm>
            <a:off x="1211400" y="3565440"/>
            <a:ext cx="377640" cy="129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MARTPenAnnotation773"/>
          <p:cNvSpPr/>
          <p:nvPr/>
        </p:nvSpPr>
        <p:spPr>
          <a:xfrm>
            <a:off x="2789280" y="3611520"/>
            <a:ext cx="639720" cy="111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MARTPenAnnotation774"/>
          <p:cNvSpPr/>
          <p:nvPr/>
        </p:nvSpPr>
        <p:spPr>
          <a:xfrm>
            <a:off x="4219560" y="2697120"/>
            <a:ext cx="341280" cy="2746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MARTPenAnnotation775"/>
          <p:cNvSpPr/>
          <p:nvPr/>
        </p:nvSpPr>
        <p:spPr>
          <a:xfrm>
            <a:off x="4560840" y="2697120"/>
            <a:ext cx="250920" cy="2746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MARTPenAnnotation776"/>
          <p:cNvSpPr/>
          <p:nvPr/>
        </p:nvSpPr>
        <p:spPr>
          <a:xfrm>
            <a:off x="4579920" y="2754360"/>
            <a:ext cx="174600" cy="239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MARTPenAnnotation777"/>
          <p:cNvSpPr/>
          <p:nvPr/>
        </p:nvSpPr>
        <p:spPr>
          <a:xfrm>
            <a:off x="4811760" y="2606760"/>
            <a:ext cx="171360" cy="158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MARTPenAnnotation778"/>
          <p:cNvSpPr/>
          <p:nvPr/>
        </p:nvSpPr>
        <p:spPr>
          <a:xfrm>
            <a:off x="2754360" y="3773520"/>
            <a:ext cx="263520" cy="4096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MARTPenAnnotation779"/>
          <p:cNvSpPr/>
          <p:nvPr/>
        </p:nvSpPr>
        <p:spPr>
          <a:xfrm>
            <a:off x="3063960" y="3828960"/>
            <a:ext cx="215640" cy="343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MARTPenAnnotation780"/>
          <p:cNvSpPr/>
          <p:nvPr/>
        </p:nvSpPr>
        <p:spPr>
          <a:xfrm>
            <a:off x="3121200" y="3807000"/>
            <a:ext cx="147600" cy="2966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MARTPenAnnotation781"/>
          <p:cNvSpPr/>
          <p:nvPr/>
        </p:nvSpPr>
        <p:spPr>
          <a:xfrm>
            <a:off x="3303720" y="3693960"/>
            <a:ext cx="239760" cy="201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MARTPenAnnotation782"/>
          <p:cNvSpPr/>
          <p:nvPr/>
        </p:nvSpPr>
        <p:spPr>
          <a:xfrm>
            <a:off x="3794040" y="3954600"/>
            <a:ext cx="138240" cy="23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MARTPenAnnotation783"/>
          <p:cNvSpPr/>
          <p:nvPr/>
        </p:nvSpPr>
        <p:spPr>
          <a:xfrm>
            <a:off x="3782880" y="3851280"/>
            <a:ext cx="81000" cy="3999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MARTPenAnnotation784"/>
          <p:cNvSpPr/>
          <p:nvPr/>
        </p:nvSpPr>
        <p:spPr>
          <a:xfrm>
            <a:off x="4057560" y="3782880"/>
            <a:ext cx="206640" cy="3542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MARTPenAnnotation785"/>
          <p:cNvSpPr/>
          <p:nvPr/>
        </p:nvSpPr>
        <p:spPr>
          <a:xfrm>
            <a:off x="4302000" y="3875040"/>
            <a:ext cx="223920" cy="2970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MARTPenAnnotation786"/>
          <p:cNvSpPr/>
          <p:nvPr/>
        </p:nvSpPr>
        <p:spPr>
          <a:xfrm>
            <a:off x="4332240" y="3851280"/>
            <a:ext cx="147600" cy="252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MARTPenAnnotation787"/>
          <p:cNvSpPr/>
          <p:nvPr/>
        </p:nvSpPr>
        <p:spPr>
          <a:xfrm>
            <a:off x="4551480" y="3736800"/>
            <a:ext cx="203040" cy="1494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MARTPenAnnotation788"/>
          <p:cNvSpPr/>
          <p:nvPr/>
        </p:nvSpPr>
        <p:spPr>
          <a:xfrm>
            <a:off x="3565440" y="3965400"/>
            <a:ext cx="389160" cy="70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760" bIns="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MARTPenAnnotation789"/>
          <p:cNvSpPr/>
          <p:nvPr/>
        </p:nvSpPr>
        <p:spPr>
          <a:xfrm>
            <a:off x="2536920" y="4332240"/>
            <a:ext cx="2138400" cy="46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MARTPenAnnotation790"/>
          <p:cNvSpPr/>
          <p:nvPr/>
        </p:nvSpPr>
        <p:spPr>
          <a:xfrm>
            <a:off x="1874880" y="4114800"/>
            <a:ext cx="365040" cy="176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MARTPenAnnotation791"/>
          <p:cNvSpPr/>
          <p:nvPr/>
        </p:nvSpPr>
        <p:spPr>
          <a:xfrm>
            <a:off x="2516040" y="3679920"/>
            <a:ext cx="123840" cy="5713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MARTPenAnnotation792"/>
          <p:cNvSpPr/>
          <p:nvPr/>
        </p:nvSpPr>
        <p:spPr>
          <a:xfrm>
            <a:off x="4697280" y="3668760"/>
            <a:ext cx="171720" cy="5824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MARTPenAnnotation793"/>
          <p:cNvSpPr/>
          <p:nvPr/>
        </p:nvSpPr>
        <p:spPr>
          <a:xfrm>
            <a:off x="2879640" y="3097080"/>
            <a:ext cx="514440" cy="11430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MARTPenAnnotation794"/>
          <p:cNvSpPr/>
          <p:nvPr/>
        </p:nvSpPr>
        <p:spPr>
          <a:xfrm>
            <a:off x="3772080" y="4543560"/>
            <a:ext cx="296640" cy="4172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MARTPenAnnotation795"/>
          <p:cNvSpPr/>
          <p:nvPr/>
        </p:nvSpPr>
        <p:spPr>
          <a:xfrm>
            <a:off x="4183200" y="4640400"/>
            <a:ext cx="206280" cy="2966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MARTPenAnnotation796"/>
          <p:cNvSpPr/>
          <p:nvPr/>
        </p:nvSpPr>
        <p:spPr>
          <a:xfrm>
            <a:off x="4114800" y="4606920"/>
            <a:ext cx="228600" cy="3081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MARTPenAnnotation797"/>
          <p:cNvSpPr/>
          <p:nvPr/>
        </p:nvSpPr>
        <p:spPr>
          <a:xfrm>
            <a:off x="4435560" y="4492800"/>
            <a:ext cx="215640" cy="1760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MARTPenAnnotation798"/>
          <p:cNvSpPr/>
          <p:nvPr/>
        </p:nvSpPr>
        <p:spPr>
          <a:xfrm>
            <a:off x="4708440" y="4686480"/>
            <a:ext cx="228600" cy="34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MARTPenAnnotation799"/>
          <p:cNvSpPr/>
          <p:nvPr/>
        </p:nvSpPr>
        <p:spPr>
          <a:xfrm>
            <a:off x="5040360" y="4549680"/>
            <a:ext cx="252360" cy="2970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MARTPenAnnotation800"/>
          <p:cNvSpPr/>
          <p:nvPr/>
        </p:nvSpPr>
        <p:spPr>
          <a:xfrm>
            <a:off x="5040360" y="4503600"/>
            <a:ext cx="228600" cy="3081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MARTPenAnnotation801"/>
          <p:cNvSpPr/>
          <p:nvPr/>
        </p:nvSpPr>
        <p:spPr>
          <a:xfrm>
            <a:off x="4994280" y="2879640"/>
            <a:ext cx="355680" cy="23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MARTPenAnnotation802"/>
          <p:cNvSpPr/>
          <p:nvPr/>
        </p:nvSpPr>
        <p:spPr>
          <a:xfrm>
            <a:off x="5154480" y="2811600"/>
            <a:ext cx="34920" cy="2854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MARTPenAnnotation803"/>
          <p:cNvSpPr/>
          <p:nvPr/>
        </p:nvSpPr>
        <p:spPr>
          <a:xfrm>
            <a:off x="5361120" y="2676600"/>
            <a:ext cx="285480" cy="3236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MARTPenAnnotation804"/>
          <p:cNvSpPr/>
          <p:nvPr/>
        </p:nvSpPr>
        <p:spPr>
          <a:xfrm>
            <a:off x="5578560" y="2822400"/>
            <a:ext cx="204840" cy="1954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MARTPenAnnotation805"/>
          <p:cNvSpPr/>
          <p:nvPr/>
        </p:nvSpPr>
        <p:spPr>
          <a:xfrm>
            <a:off x="5600880" y="2846520"/>
            <a:ext cx="125280" cy="1825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MARTPenAnnotation806"/>
          <p:cNvSpPr/>
          <p:nvPr/>
        </p:nvSpPr>
        <p:spPr>
          <a:xfrm>
            <a:off x="3719520" y="4994280"/>
            <a:ext cx="281160" cy="4665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MARTPenAnnotation807"/>
          <p:cNvSpPr/>
          <p:nvPr/>
        </p:nvSpPr>
        <p:spPr>
          <a:xfrm>
            <a:off x="4046400" y="5154480"/>
            <a:ext cx="182880" cy="331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MARTPenAnnotation808"/>
          <p:cNvSpPr/>
          <p:nvPr/>
        </p:nvSpPr>
        <p:spPr>
          <a:xfrm>
            <a:off x="4057560" y="5178600"/>
            <a:ext cx="136440" cy="2617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MARTPenAnnotation809"/>
          <p:cNvSpPr/>
          <p:nvPr/>
        </p:nvSpPr>
        <p:spPr>
          <a:xfrm>
            <a:off x="4240080" y="5006880"/>
            <a:ext cx="206640" cy="2048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MARTPenAnnotation810"/>
          <p:cNvSpPr/>
          <p:nvPr/>
        </p:nvSpPr>
        <p:spPr>
          <a:xfrm>
            <a:off x="4514760" y="5178600"/>
            <a:ext cx="206640" cy="33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MARTPenAnnotation811"/>
          <p:cNvSpPr/>
          <p:nvPr/>
        </p:nvSpPr>
        <p:spPr>
          <a:xfrm>
            <a:off x="4594320" y="5075280"/>
            <a:ext cx="23760" cy="2970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MARTPenAnnotation812"/>
          <p:cNvSpPr/>
          <p:nvPr/>
        </p:nvSpPr>
        <p:spPr>
          <a:xfrm>
            <a:off x="4721400" y="4919760"/>
            <a:ext cx="228600" cy="4064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MARTPenAnnotation813"/>
          <p:cNvSpPr/>
          <p:nvPr/>
        </p:nvSpPr>
        <p:spPr>
          <a:xfrm>
            <a:off x="4937040" y="5097600"/>
            <a:ext cx="206640" cy="171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MARTPenAnnotation814"/>
          <p:cNvSpPr/>
          <p:nvPr/>
        </p:nvSpPr>
        <p:spPr>
          <a:xfrm>
            <a:off x="4971960" y="5064120"/>
            <a:ext cx="103320" cy="2728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MARTPenAnnotation815"/>
          <p:cNvSpPr/>
          <p:nvPr/>
        </p:nvSpPr>
        <p:spPr>
          <a:xfrm>
            <a:off x="3600360" y="5429160"/>
            <a:ext cx="1771920" cy="921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MARTPenAnnotation816"/>
          <p:cNvSpPr/>
          <p:nvPr/>
        </p:nvSpPr>
        <p:spPr>
          <a:xfrm>
            <a:off x="3040200" y="5270400"/>
            <a:ext cx="309600" cy="446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MARTPenAnnotation817"/>
          <p:cNvSpPr/>
          <p:nvPr/>
        </p:nvSpPr>
        <p:spPr>
          <a:xfrm>
            <a:off x="3452760" y="4915080"/>
            <a:ext cx="158760" cy="5490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MARTPenAnnotation818"/>
          <p:cNvSpPr/>
          <p:nvPr/>
        </p:nvSpPr>
        <p:spPr>
          <a:xfrm>
            <a:off x="5211720" y="4800600"/>
            <a:ext cx="206280" cy="606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MARTPenAnnotation819"/>
          <p:cNvSpPr/>
          <p:nvPr/>
        </p:nvSpPr>
        <p:spPr>
          <a:xfrm>
            <a:off x="3760920" y="4525920"/>
            <a:ext cx="331560" cy="938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MARTPenAnnotation820"/>
          <p:cNvSpPr/>
          <p:nvPr/>
        </p:nvSpPr>
        <p:spPr>
          <a:xfrm>
            <a:off x="4468680" y="5680080"/>
            <a:ext cx="228600" cy="23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MARTPenAnnotation821"/>
          <p:cNvSpPr/>
          <p:nvPr/>
        </p:nvSpPr>
        <p:spPr>
          <a:xfrm>
            <a:off x="4708440" y="5521320"/>
            <a:ext cx="252360" cy="330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MARTPenAnnotation822"/>
          <p:cNvSpPr/>
          <p:nvPr/>
        </p:nvSpPr>
        <p:spPr>
          <a:xfrm>
            <a:off x="5051520" y="5554800"/>
            <a:ext cx="195120" cy="252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MARTPenAnnotation823"/>
          <p:cNvSpPr/>
          <p:nvPr/>
        </p:nvSpPr>
        <p:spPr>
          <a:xfrm>
            <a:off x="5029200" y="5521320"/>
            <a:ext cx="171360" cy="330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MARTPenAnnotation824"/>
          <p:cNvSpPr/>
          <p:nvPr/>
        </p:nvSpPr>
        <p:spPr>
          <a:xfrm>
            <a:off x="5440320" y="5554800"/>
            <a:ext cx="252360" cy="23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MARTPenAnnotation825"/>
          <p:cNvSpPr/>
          <p:nvPr/>
        </p:nvSpPr>
        <p:spPr>
          <a:xfrm>
            <a:off x="5532480" y="5429160"/>
            <a:ext cx="22320" cy="2635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MARTPenAnnotation826"/>
          <p:cNvSpPr/>
          <p:nvPr/>
        </p:nvSpPr>
        <p:spPr>
          <a:xfrm>
            <a:off x="5772240" y="5326200"/>
            <a:ext cx="204840" cy="3204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MARTPenAnnotation827"/>
          <p:cNvSpPr/>
          <p:nvPr/>
        </p:nvSpPr>
        <p:spPr>
          <a:xfrm>
            <a:off x="5897520" y="2925720"/>
            <a:ext cx="3240" cy="360"/>
          </a:xfrm>
          <a:prstGeom prst="pie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MARTPenAnnotation828"/>
          <p:cNvSpPr/>
          <p:nvPr/>
        </p:nvSpPr>
        <p:spPr>
          <a:xfrm>
            <a:off x="5897520" y="2936880"/>
            <a:ext cx="217440" cy="34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MARTPenAnnotation829"/>
          <p:cNvSpPr/>
          <p:nvPr/>
        </p:nvSpPr>
        <p:spPr>
          <a:xfrm>
            <a:off x="6207120" y="2743200"/>
            <a:ext cx="260280" cy="331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MARTPenAnnotation830"/>
          <p:cNvSpPr/>
          <p:nvPr/>
        </p:nvSpPr>
        <p:spPr>
          <a:xfrm>
            <a:off x="4394160" y="6080040"/>
            <a:ext cx="200160" cy="34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MARTPenAnnotation831"/>
          <p:cNvSpPr/>
          <p:nvPr/>
        </p:nvSpPr>
        <p:spPr>
          <a:xfrm>
            <a:off x="4629240" y="5908680"/>
            <a:ext cx="272880" cy="4064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MARTPenAnnotation832"/>
          <p:cNvSpPr/>
          <p:nvPr/>
        </p:nvSpPr>
        <p:spPr>
          <a:xfrm>
            <a:off x="4937040" y="5965920"/>
            <a:ext cx="195480" cy="309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MARTPenAnnotation833"/>
          <p:cNvSpPr/>
          <p:nvPr/>
        </p:nvSpPr>
        <p:spPr>
          <a:xfrm>
            <a:off x="4879800" y="5908680"/>
            <a:ext cx="241560" cy="331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MARTPenAnnotation834"/>
          <p:cNvSpPr/>
          <p:nvPr/>
        </p:nvSpPr>
        <p:spPr>
          <a:xfrm>
            <a:off x="5235480" y="5983200"/>
            <a:ext cx="204840" cy="525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MARTPenAnnotation835"/>
          <p:cNvSpPr/>
          <p:nvPr/>
        </p:nvSpPr>
        <p:spPr>
          <a:xfrm>
            <a:off x="5508720" y="5794200"/>
            <a:ext cx="250560" cy="3668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MARTPenAnnotation836"/>
          <p:cNvSpPr/>
          <p:nvPr/>
        </p:nvSpPr>
        <p:spPr>
          <a:xfrm>
            <a:off x="3965400" y="6389640"/>
            <a:ext cx="2206800" cy="684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MARTPenAnnotation837"/>
          <p:cNvSpPr/>
          <p:nvPr/>
        </p:nvSpPr>
        <p:spPr>
          <a:xfrm>
            <a:off x="3828960" y="6093000"/>
            <a:ext cx="343080" cy="79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MARTPenAnnotation838"/>
          <p:cNvSpPr/>
          <p:nvPr/>
        </p:nvSpPr>
        <p:spPr>
          <a:xfrm>
            <a:off x="4286160" y="5886360"/>
            <a:ext cx="125640" cy="536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MARTPenAnnotation839"/>
          <p:cNvSpPr/>
          <p:nvPr/>
        </p:nvSpPr>
        <p:spPr>
          <a:xfrm>
            <a:off x="5864400" y="5692680"/>
            <a:ext cx="193680" cy="525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MARTPenAnnotation840"/>
          <p:cNvSpPr/>
          <p:nvPr/>
        </p:nvSpPr>
        <p:spPr>
          <a:xfrm>
            <a:off x="4721400" y="5543640"/>
            <a:ext cx="237960" cy="1074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MARTPenAnnotation841"/>
          <p:cNvSpPr/>
          <p:nvPr/>
        </p:nvSpPr>
        <p:spPr>
          <a:xfrm>
            <a:off x="5468760" y="6481800"/>
            <a:ext cx="198720" cy="272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MARTPenAnnotation842"/>
          <p:cNvSpPr/>
          <p:nvPr/>
        </p:nvSpPr>
        <p:spPr>
          <a:xfrm>
            <a:off x="6583320" y="2971800"/>
            <a:ext cx="228600" cy="11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MARTPenAnnotation843"/>
          <p:cNvSpPr/>
          <p:nvPr/>
        </p:nvSpPr>
        <p:spPr>
          <a:xfrm>
            <a:off x="6697800" y="2857680"/>
            <a:ext cx="34920" cy="3315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MARTPenAnnotation844"/>
          <p:cNvSpPr/>
          <p:nvPr/>
        </p:nvSpPr>
        <p:spPr>
          <a:xfrm>
            <a:off x="6996240" y="2619360"/>
            <a:ext cx="182520" cy="295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MARTPenAnnotation845"/>
          <p:cNvSpPr/>
          <p:nvPr/>
        </p:nvSpPr>
        <p:spPr>
          <a:xfrm>
            <a:off x="6880320" y="3019320"/>
            <a:ext cx="527040" cy="20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MARTPenAnnotation846"/>
          <p:cNvSpPr/>
          <p:nvPr/>
        </p:nvSpPr>
        <p:spPr>
          <a:xfrm>
            <a:off x="6915240" y="3121200"/>
            <a:ext cx="125280" cy="2966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MARTPenAnnotation847"/>
          <p:cNvSpPr/>
          <p:nvPr/>
        </p:nvSpPr>
        <p:spPr>
          <a:xfrm>
            <a:off x="6869160" y="3154320"/>
            <a:ext cx="171360" cy="263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MARTPenAnnotation848"/>
          <p:cNvSpPr/>
          <p:nvPr/>
        </p:nvSpPr>
        <p:spPr>
          <a:xfrm>
            <a:off x="7097760" y="3200400"/>
            <a:ext cx="217440" cy="46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MARTPenAnnotation849"/>
          <p:cNvSpPr/>
          <p:nvPr/>
        </p:nvSpPr>
        <p:spPr>
          <a:xfrm>
            <a:off x="7159680" y="3132000"/>
            <a:ext cx="76320" cy="250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MARTPenAnnotation850"/>
          <p:cNvSpPr/>
          <p:nvPr/>
        </p:nvSpPr>
        <p:spPr>
          <a:xfrm>
            <a:off x="7361280" y="3097080"/>
            <a:ext cx="79200" cy="309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MARTPenAnnotation507"/>
          <p:cNvSpPr/>
          <p:nvPr/>
        </p:nvSpPr>
        <p:spPr>
          <a:xfrm>
            <a:off x="936720" y="1714680"/>
            <a:ext cx="296640" cy="4982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MARTPenAnnotation508"/>
          <p:cNvSpPr/>
          <p:nvPr/>
        </p:nvSpPr>
        <p:spPr>
          <a:xfrm>
            <a:off x="801720" y="1749600"/>
            <a:ext cx="420480" cy="5238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MARTPenAnnotation509"/>
          <p:cNvSpPr/>
          <p:nvPr/>
        </p:nvSpPr>
        <p:spPr>
          <a:xfrm>
            <a:off x="1371600" y="1932120"/>
            <a:ext cx="343080" cy="680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MARTPenAnnotation510"/>
          <p:cNvSpPr/>
          <p:nvPr/>
        </p:nvSpPr>
        <p:spPr>
          <a:xfrm>
            <a:off x="1558800" y="1806480"/>
            <a:ext cx="30240" cy="4208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MARTPenAnnotation511"/>
          <p:cNvSpPr/>
          <p:nvPr/>
        </p:nvSpPr>
        <p:spPr>
          <a:xfrm>
            <a:off x="1722600" y="1703520"/>
            <a:ext cx="369720" cy="4442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MARTPenAnnotation512"/>
          <p:cNvSpPr/>
          <p:nvPr/>
        </p:nvSpPr>
        <p:spPr>
          <a:xfrm>
            <a:off x="2251080" y="1531800"/>
            <a:ext cx="1449360" cy="8794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MARTPenAnnotation513"/>
          <p:cNvSpPr/>
          <p:nvPr/>
        </p:nvSpPr>
        <p:spPr>
          <a:xfrm>
            <a:off x="4071960" y="1440000"/>
            <a:ext cx="3975120" cy="918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MARTPenAnnotation514"/>
          <p:cNvSpPr/>
          <p:nvPr/>
        </p:nvSpPr>
        <p:spPr>
          <a:xfrm>
            <a:off x="2800440" y="1886040"/>
            <a:ext cx="274680" cy="5252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MARTPenAnnotation515"/>
          <p:cNvSpPr/>
          <p:nvPr/>
        </p:nvSpPr>
        <p:spPr>
          <a:xfrm>
            <a:off x="2687760" y="1908000"/>
            <a:ext cx="352440" cy="5558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MARTPenAnnotation516"/>
          <p:cNvSpPr/>
          <p:nvPr/>
        </p:nvSpPr>
        <p:spPr>
          <a:xfrm>
            <a:off x="3132000" y="1725480"/>
            <a:ext cx="204840" cy="320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MARTPenAnnotation517"/>
          <p:cNvSpPr/>
          <p:nvPr/>
        </p:nvSpPr>
        <p:spPr>
          <a:xfrm>
            <a:off x="4525920" y="2276640"/>
            <a:ext cx="57240" cy="316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MARTPenAnnotation518"/>
          <p:cNvSpPr/>
          <p:nvPr/>
        </p:nvSpPr>
        <p:spPr>
          <a:xfrm>
            <a:off x="5029200" y="2068560"/>
            <a:ext cx="422280" cy="680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MARTPenAnnotation519"/>
          <p:cNvSpPr/>
          <p:nvPr/>
        </p:nvSpPr>
        <p:spPr>
          <a:xfrm>
            <a:off x="5246640" y="1943280"/>
            <a:ext cx="33480" cy="4903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MARTPenAnnotation520"/>
          <p:cNvSpPr/>
          <p:nvPr/>
        </p:nvSpPr>
        <p:spPr>
          <a:xfrm>
            <a:off x="5532480" y="1817640"/>
            <a:ext cx="399960" cy="5828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MARTPenAnnotation521"/>
          <p:cNvSpPr/>
          <p:nvPr/>
        </p:nvSpPr>
        <p:spPr>
          <a:xfrm>
            <a:off x="5943600" y="2011320"/>
            <a:ext cx="343080" cy="2858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MARTPenAnnotation522"/>
          <p:cNvSpPr/>
          <p:nvPr/>
        </p:nvSpPr>
        <p:spPr>
          <a:xfrm>
            <a:off x="5943600" y="1978200"/>
            <a:ext cx="250920" cy="433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MARTPenAnnotation523"/>
          <p:cNvSpPr/>
          <p:nvPr/>
        </p:nvSpPr>
        <p:spPr>
          <a:xfrm>
            <a:off x="6183360" y="1760400"/>
            <a:ext cx="320760" cy="250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MARTPenAnnotation524"/>
          <p:cNvSpPr/>
          <p:nvPr/>
        </p:nvSpPr>
        <p:spPr>
          <a:xfrm>
            <a:off x="7108920" y="1793880"/>
            <a:ext cx="14040" cy="7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MARTPenAnnotation525"/>
          <p:cNvSpPr/>
          <p:nvPr/>
        </p:nvSpPr>
        <p:spPr>
          <a:xfrm>
            <a:off x="7155000" y="2320920"/>
            <a:ext cx="10800" cy="111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MARTPenAnnotation526"/>
          <p:cNvSpPr/>
          <p:nvPr/>
        </p:nvSpPr>
        <p:spPr>
          <a:xfrm>
            <a:off x="7397640" y="2278080"/>
            <a:ext cx="87480" cy="17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MARTPenAnnotation527"/>
          <p:cNvSpPr/>
          <p:nvPr/>
        </p:nvSpPr>
        <p:spPr>
          <a:xfrm>
            <a:off x="7350120" y="1920960"/>
            <a:ext cx="11160" cy="111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MARTPenAnnotation528"/>
          <p:cNvSpPr/>
          <p:nvPr/>
        </p:nvSpPr>
        <p:spPr>
          <a:xfrm>
            <a:off x="4172040" y="1897200"/>
            <a:ext cx="285840" cy="457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MARTPenAnnotation529"/>
          <p:cNvSpPr/>
          <p:nvPr/>
        </p:nvSpPr>
        <p:spPr>
          <a:xfrm>
            <a:off x="4468680" y="2068560"/>
            <a:ext cx="228600" cy="330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MARTPenAnnotation530"/>
          <p:cNvSpPr/>
          <p:nvPr/>
        </p:nvSpPr>
        <p:spPr>
          <a:xfrm>
            <a:off x="4468680" y="2125800"/>
            <a:ext cx="160560" cy="2649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MARTPenAnnotation531"/>
          <p:cNvSpPr/>
          <p:nvPr/>
        </p:nvSpPr>
        <p:spPr>
          <a:xfrm>
            <a:off x="4675320" y="1876320"/>
            <a:ext cx="164880" cy="2271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MARTPenAnnotation532"/>
          <p:cNvSpPr/>
          <p:nvPr/>
        </p:nvSpPr>
        <p:spPr>
          <a:xfrm>
            <a:off x="3440160" y="2000160"/>
            <a:ext cx="204840" cy="400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MARTPenAnnotation533"/>
          <p:cNvSpPr/>
          <p:nvPr/>
        </p:nvSpPr>
        <p:spPr>
          <a:xfrm>
            <a:off x="3703680" y="2079720"/>
            <a:ext cx="171360" cy="309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MARTPenAnnotation534"/>
          <p:cNvSpPr/>
          <p:nvPr/>
        </p:nvSpPr>
        <p:spPr>
          <a:xfrm>
            <a:off x="3668760" y="2136600"/>
            <a:ext cx="217440" cy="309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MARTPenAnnotation535"/>
          <p:cNvSpPr/>
          <p:nvPr/>
        </p:nvSpPr>
        <p:spPr>
          <a:xfrm>
            <a:off x="3921120" y="1908000"/>
            <a:ext cx="114480" cy="810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MARTPenAnnotation536"/>
          <p:cNvSpPr/>
          <p:nvPr/>
        </p:nvSpPr>
        <p:spPr>
          <a:xfrm>
            <a:off x="3989520" y="1908000"/>
            <a:ext cx="11160" cy="274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MARTPenAnnotation537"/>
          <p:cNvSpPr/>
          <p:nvPr/>
        </p:nvSpPr>
        <p:spPr>
          <a:xfrm>
            <a:off x="6607080" y="2239920"/>
            <a:ext cx="343080" cy="57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MARTPenAnnotation538"/>
          <p:cNvSpPr/>
          <p:nvPr/>
        </p:nvSpPr>
        <p:spPr>
          <a:xfrm>
            <a:off x="7053120" y="1843200"/>
            <a:ext cx="328680" cy="5745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MARTPenAnnotation539"/>
          <p:cNvSpPr/>
          <p:nvPr/>
        </p:nvSpPr>
        <p:spPr>
          <a:xfrm>
            <a:off x="7429680" y="2000160"/>
            <a:ext cx="295200" cy="381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MARTPenAnnotation540"/>
          <p:cNvSpPr/>
          <p:nvPr/>
        </p:nvSpPr>
        <p:spPr>
          <a:xfrm>
            <a:off x="7394400" y="2050920"/>
            <a:ext cx="274680" cy="363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MARTPenAnnotation541"/>
          <p:cNvSpPr/>
          <p:nvPr/>
        </p:nvSpPr>
        <p:spPr>
          <a:xfrm>
            <a:off x="6765840" y="2182680"/>
            <a:ext cx="34920" cy="389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MARTPenAnnotation542"/>
          <p:cNvSpPr/>
          <p:nvPr/>
        </p:nvSpPr>
        <p:spPr>
          <a:xfrm>
            <a:off x="7937640" y="2182680"/>
            <a:ext cx="257040" cy="24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MARTPenAnnotation543"/>
          <p:cNvSpPr/>
          <p:nvPr/>
        </p:nvSpPr>
        <p:spPr>
          <a:xfrm>
            <a:off x="8264520" y="1897200"/>
            <a:ext cx="22320" cy="4824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MARTPenAnnotation544"/>
          <p:cNvSpPr/>
          <p:nvPr/>
        </p:nvSpPr>
        <p:spPr>
          <a:xfrm>
            <a:off x="8366040" y="1920960"/>
            <a:ext cx="228600" cy="4442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MARTPenAnnotation545"/>
          <p:cNvSpPr/>
          <p:nvPr/>
        </p:nvSpPr>
        <p:spPr>
          <a:xfrm>
            <a:off x="8012160" y="1531800"/>
            <a:ext cx="834840" cy="223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MARTPenAnnotation546"/>
          <p:cNvSpPr/>
          <p:nvPr/>
        </p:nvSpPr>
        <p:spPr>
          <a:xfrm>
            <a:off x="3432240" y="2536920"/>
            <a:ext cx="339840" cy="12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MARTPenAnnotation547"/>
          <p:cNvSpPr/>
          <p:nvPr/>
        </p:nvSpPr>
        <p:spPr>
          <a:xfrm>
            <a:off x="7143840" y="2492280"/>
            <a:ext cx="650880" cy="334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MARTPenAnnotation548"/>
          <p:cNvSpPr/>
          <p:nvPr/>
        </p:nvSpPr>
        <p:spPr>
          <a:xfrm>
            <a:off x="3205080" y="2263680"/>
            <a:ext cx="144720" cy="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MARTPenAnnotation549"/>
          <p:cNvSpPr/>
          <p:nvPr/>
        </p:nvSpPr>
        <p:spPr>
          <a:xfrm>
            <a:off x="3240000" y="2195640"/>
            <a:ext cx="39600" cy="158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MARTPenAnnotation550"/>
          <p:cNvSpPr/>
          <p:nvPr/>
        </p:nvSpPr>
        <p:spPr>
          <a:xfrm>
            <a:off x="3497400" y="1041480"/>
            <a:ext cx="342720" cy="433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MARTPenAnnotation551"/>
          <p:cNvSpPr/>
          <p:nvPr/>
        </p:nvSpPr>
        <p:spPr>
          <a:xfrm>
            <a:off x="3497400" y="1006560"/>
            <a:ext cx="252360" cy="490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MARTPenAnnotation552"/>
          <p:cNvSpPr/>
          <p:nvPr/>
        </p:nvSpPr>
        <p:spPr>
          <a:xfrm>
            <a:off x="3828960" y="743040"/>
            <a:ext cx="114480" cy="160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MARTPenAnnotation553"/>
          <p:cNvSpPr/>
          <p:nvPr/>
        </p:nvSpPr>
        <p:spPr>
          <a:xfrm>
            <a:off x="3921120" y="765000"/>
            <a:ext cx="44280" cy="3668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MARTPenAnnotation554"/>
          <p:cNvSpPr/>
          <p:nvPr/>
        </p:nvSpPr>
        <p:spPr>
          <a:xfrm>
            <a:off x="2606760" y="2778120"/>
            <a:ext cx="261720" cy="365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MARTPenAnnotation555"/>
          <p:cNvSpPr/>
          <p:nvPr/>
        </p:nvSpPr>
        <p:spPr>
          <a:xfrm>
            <a:off x="2617920" y="2789280"/>
            <a:ext cx="228600" cy="274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MARTPenAnnotation556"/>
          <p:cNvSpPr/>
          <p:nvPr/>
        </p:nvSpPr>
        <p:spPr>
          <a:xfrm>
            <a:off x="2925720" y="2617920"/>
            <a:ext cx="166680" cy="182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MARTPenAnnotation557"/>
          <p:cNvSpPr/>
          <p:nvPr/>
        </p:nvSpPr>
        <p:spPr>
          <a:xfrm>
            <a:off x="2925720" y="2765520"/>
            <a:ext cx="3240" cy="360"/>
          </a:xfrm>
          <a:prstGeom prst="pie">
            <a:avLst/>
          </a:prstGeom>
          <a:solidFill>
            <a:srgbClr val="ffcc00"/>
          </a:solidFill>
          <a:ln w="3816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MARTPenAnnotation558"/>
          <p:cNvSpPr/>
          <p:nvPr/>
        </p:nvSpPr>
        <p:spPr>
          <a:xfrm>
            <a:off x="3154320" y="2936880"/>
            <a:ext cx="206280" cy="23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MARTPenAnnotation559"/>
          <p:cNvSpPr/>
          <p:nvPr/>
        </p:nvSpPr>
        <p:spPr>
          <a:xfrm>
            <a:off x="3235320" y="2822400"/>
            <a:ext cx="63360" cy="343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MARTPenAnnotation560"/>
          <p:cNvSpPr/>
          <p:nvPr/>
        </p:nvSpPr>
        <p:spPr>
          <a:xfrm>
            <a:off x="3433680" y="2674800"/>
            <a:ext cx="270000" cy="382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MARTPenAnnotation561"/>
          <p:cNvSpPr/>
          <p:nvPr/>
        </p:nvSpPr>
        <p:spPr>
          <a:xfrm>
            <a:off x="3726000" y="2754360"/>
            <a:ext cx="239400" cy="331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MARTPenAnnotation562"/>
          <p:cNvSpPr/>
          <p:nvPr/>
        </p:nvSpPr>
        <p:spPr>
          <a:xfrm>
            <a:off x="3760920" y="2778120"/>
            <a:ext cx="160200" cy="250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MARTPenAnnotation563"/>
          <p:cNvSpPr/>
          <p:nvPr/>
        </p:nvSpPr>
        <p:spPr>
          <a:xfrm>
            <a:off x="3965400" y="2639880"/>
            <a:ext cx="114480" cy="81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MARTPenAnnotation564"/>
          <p:cNvSpPr/>
          <p:nvPr/>
        </p:nvSpPr>
        <p:spPr>
          <a:xfrm>
            <a:off x="4051440" y="2583000"/>
            <a:ext cx="63360" cy="353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MARTPenAnnotation565"/>
          <p:cNvSpPr/>
          <p:nvPr/>
        </p:nvSpPr>
        <p:spPr>
          <a:xfrm>
            <a:off x="2286000" y="3354480"/>
            <a:ext cx="2103480" cy="92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MARTPenAnnotation566"/>
          <p:cNvSpPr/>
          <p:nvPr/>
        </p:nvSpPr>
        <p:spPr>
          <a:xfrm>
            <a:off x="1817640" y="3006720"/>
            <a:ext cx="422280" cy="114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MARTPenAnnotation567"/>
          <p:cNvSpPr/>
          <p:nvPr/>
        </p:nvSpPr>
        <p:spPr>
          <a:xfrm>
            <a:off x="2382840" y="2571840"/>
            <a:ext cx="268200" cy="707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MARTPenAnnotation568"/>
          <p:cNvSpPr/>
          <p:nvPr/>
        </p:nvSpPr>
        <p:spPr>
          <a:xfrm>
            <a:off x="4057560" y="2479680"/>
            <a:ext cx="228600" cy="606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MARTPenAnnotation569"/>
          <p:cNvSpPr/>
          <p:nvPr/>
        </p:nvSpPr>
        <p:spPr>
          <a:xfrm>
            <a:off x="3235320" y="3782880"/>
            <a:ext cx="318960" cy="81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MARTPenAnnotation570"/>
          <p:cNvSpPr/>
          <p:nvPr/>
        </p:nvSpPr>
        <p:spPr>
          <a:xfrm>
            <a:off x="3600360" y="3556080"/>
            <a:ext cx="250920" cy="4665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MARTPenAnnotation571"/>
          <p:cNvSpPr/>
          <p:nvPr/>
        </p:nvSpPr>
        <p:spPr>
          <a:xfrm>
            <a:off x="3921120" y="3668760"/>
            <a:ext cx="285840" cy="274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MARTPenAnnotation572"/>
          <p:cNvSpPr/>
          <p:nvPr/>
        </p:nvSpPr>
        <p:spPr>
          <a:xfrm>
            <a:off x="3954600" y="3635280"/>
            <a:ext cx="171360" cy="297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MARTPenAnnotation573"/>
          <p:cNvSpPr/>
          <p:nvPr/>
        </p:nvSpPr>
        <p:spPr>
          <a:xfrm>
            <a:off x="4172040" y="3543480"/>
            <a:ext cx="136440" cy="102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MARTPenAnnotation574"/>
          <p:cNvSpPr/>
          <p:nvPr/>
        </p:nvSpPr>
        <p:spPr>
          <a:xfrm>
            <a:off x="4297320" y="3508200"/>
            <a:ext cx="46080" cy="252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MARTPenAnnotation575"/>
          <p:cNvSpPr/>
          <p:nvPr/>
        </p:nvSpPr>
        <p:spPr>
          <a:xfrm>
            <a:off x="4572000" y="3760920"/>
            <a:ext cx="193680" cy="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MARTPenAnnotation576"/>
          <p:cNvSpPr/>
          <p:nvPr/>
        </p:nvSpPr>
        <p:spPr>
          <a:xfrm>
            <a:off x="4633920" y="3646440"/>
            <a:ext cx="63360" cy="274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MARTPenAnnotation577"/>
          <p:cNvSpPr/>
          <p:nvPr/>
        </p:nvSpPr>
        <p:spPr>
          <a:xfrm>
            <a:off x="4778280" y="3508200"/>
            <a:ext cx="211320" cy="263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MARTPenAnnotation578"/>
          <p:cNvSpPr/>
          <p:nvPr/>
        </p:nvSpPr>
        <p:spPr>
          <a:xfrm>
            <a:off x="4846680" y="3807000"/>
            <a:ext cx="11160" cy="10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MARTPenAnnotation579"/>
          <p:cNvSpPr/>
          <p:nvPr/>
        </p:nvSpPr>
        <p:spPr>
          <a:xfrm>
            <a:off x="5006880" y="3543480"/>
            <a:ext cx="204840" cy="307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MARTPenAnnotation580"/>
          <p:cNvSpPr/>
          <p:nvPr/>
        </p:nvSpPr>
        <p:spPr>
          <a:xfrm>
            <a:off x="5052960" y="3543480"/>
            <a:ext cx="101520" cy="244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MARTPenAnnotation581"/>
          <p:cNvSpPr/>
          <p:nvPr/>
        </p:nvSpPr>
        <p:spPr>
          <a:xfrm>
            <a:off x="5040360" y="3817800"/>
            <a:ext cx="11160" cy="11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MARTPenAnnotation582"/>
          <p:cNvSpPr/>
          <p:nvPr/>
        </p:nvSpPr>
        <p:spPr>
          <a:xfrm>
            <a:off x="5222880" y="3371760"/>
            <a:ext cx="123840" cy="250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MARTPenAnnotation583"/>
          <p:cNvSpPr/>
          <p:nvPr/>
        </p:nvSpPr>
        <p:spPr>
          <a:xfrm>
            <a:off x="4572000" y="2549520"/>
            <a:ext cx="114480" cy="615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MARTPenAnnotation584"/>
          <p:cNvSpPr/>
          <p:nvPr/>
        </p:nvSpPr>
        <p:spPr>
          <a:xfrm>
            <a:off x="4560840" y="3086280"/>
            <a:ext cx="239760" cy="180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MARTPenAnnotation585"/>
          <p:cNvSpPr/>
          <p:nvPr/>
        </p:nvSpPr>
        <p:spPr>
          <a:xfrm>
            <a:off x="4079880" y="1257480"/>
            <a:ext cx="217440" cy="44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MARTPenAnnotation586"/>
          <p:cNvSpPr/>
          <p:nvPr/>
        </p:nvSpPr>
        <p:spPr>
          <a:xfrm>
            <a:off x="4365720" y="1017720"/>
            <a:ext cx="331560" cy="411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MARTPenAnnotation587"/>
          <p:cNvSpPr/>
          <p:nvPr/>
        </p:nvSpPr>
        <p:spPr>
          <a:xfrm>
            <a:off x="4697280" y="1371600"/>
            <a:ext cx="3240" cy="360"/>
          </a:xfrm>
          <a:prstGeom prst="pie">
            <a:avLst/>
          </a:prstGeom>
          <a:solidFill>
            <a:srgbClr val="ffcc00"/>
          </a:solidFill>
          <a:ln w="3816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MARTPenAnnotation588"/>
          <p:cNvSpPr/>
          <p:nvPr/>
        </p:nvSpPr>
        <p:spPr>
          <a:xfrm>
            <a:off x="4721400" y="1120680"/>
            <a:ext cx="239400" cy="239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MARTPenAnnotation589"/>
          <p:cNvSpPr/>
          <p:nvPr/>
        </p:nvSpPr>
        <p:spPr>
          <a:xfrm>
            <a:off x="4664160" y="1131840"/>
            <a:ext cx="204840" cy="2858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MARTPenAnnotation590"/>
          <p:cNvSpPr/>
          <p:nvPr/>
        </p:nvSpPr>
        <p:spPr>
          <a:xfrm>
            <a:off x="4915080" y="914400"/>
            <a:ext cx="160200" cy="263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MARTPenAnnotation591"/>
          <p:cNvSpPr/>
          <p:nvPr/>
        </p:nvSpPr>
        <p:spPr>
          <a:xfrm>
            <a:off x="3235320" y="4354560"/>
            <a:ext cx="285840" cy="57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MARTPenAnnotation592"/>
          <p:cNvSpPr/>
          <p:nvPr/>
        </p:nvSpPr>
        <p:spPr>
          <a:xfrm>
            <a:off x="3600360" y="4160880"/>
            <a:ext cx="320760" cy="433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MARTPenAnnotation593"/>
          <p:cNvSpPr/>
          <p:nvPr/>
        </p:nvSpPr>
        <p:spPr>
          <a:xfrm>
            <a:off x="3908520" y="4308480"/>
            <a:ext cx="252360" cy="206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MARTPenAnnotation594"/>
          <p:cNvSpPr/>
          <p:nvPr/>
        </p:nvSpPr>
        <p:spPr>
          <a:xfrm>
            <a:off x="3965400" y="4218120"/>
            <a:ext cx="160560" cy="2966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MARTPenAnnotation595"/>
          <p:cNvSpPr/>
          <p:nvPr/>
        </p:nvSpPr>
        <p:spPr>
          <a:xfrm>
            <a:off x="4206960" y="4006800"/>
            <a:ext cx="147600" cy="108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MARTPenAnnotation596"/>
          <p:cNvSpPr/>
          <p:nvPr/>
        </p:nvSpPr>
        <p:spPr>
          <a:xfrm>
            <a:off x="4365720" y="3965400"/>
            <a:ext cx="56880" cy="378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MARTPenAnnotation597"/>
          <p:cNvSpPr/>
          <p:nvPr/>
        </p:nvSpPr>
        <p:spPr>
          <a:xfrm>
            <a:off x="4583160" y="4241880"/>
            <a:ext cx="92160" cy="9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MARTPenAnnotation598"/>
          <p:cNvSpPr/>
          <p:nvPr/>
        </p:nvSpPr>
        <p:spPr>
          <a:xfrm>
            <a:off x="4732200" y="4240080"/>
            <a:ext cx="11160" cy="11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MARTPenAnnotation599"/>
          <p:cNvSpPr/>
          <p:nvPr/>
        </p:nvSpPr>
        <p:spPr>
          <a:xfrm>
            <a:off x="4873680" y="3965400"/>
            <a:ext cx="212760" cy="217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MARTPenAnnotation600"/>
          <p:cNvSpPr/>
          <p:nvPr/>
        </p:nvSpPr>
        <p:spPr>
          <a:xfrm>
            <a:off x="5075280" y="3978360"/>
            <a:ext cx="33120" cy="457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MARTPenAnnotation601"/>
          <p:cNvSpPr/>
          <p:nvPr/>
        </p:nvSpPr>
        <p:spPr>
          <a:xfrm>
            <a:off x="5189400" y="4125960"/>
            <a:ext cx="193680" cy="263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MARTPenAnnotation602"/>
          <p:cNvSpPr/>
          <p:nvPr/>
        </p:nvSpPr>
        <p:spPr>
          <a:xfrm>
            <a:off x="5222880" y="4114800"/>
            <a:ext cx="103320" cy="274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MARTPenAnnotation603"/>
          <p:cNvSpPr/>
          <p:nvPr/>
        </p:nvSpPr>
        <p:spPr>
          <a:xfrm>
            <a:off x="5383080" y="3944880"/>
            <a:ext cx="136800" cy="214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MARTPenAnnotation604"/>
          <p:cNvSpPr/>
          <p:nvPr/>
        </p:nvSpPr>
        <p:spPr>
          <a:xfrm>
            <a:off x="4800600" y="3782880"/>
            <a:ext cx="160200" cy="68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MARTPenAnnotation605"/>
          <p:cNvSpPr/>
          <p:nvPr/>
        </p:nvSpPr>
        <p:spPr>
          <a:xfrm>
            <a:off x="2811600" y="4640400"/>
            <a:ext cx="2663640" cy="171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MARTPenAnnotation606"/>
          <p:cNvSpPr/>
          <p:nvPr/>
        </p:nvSpPr>
        <p:spPr>
          <a:xfrm>
            <a:off x="2995560" y="4125960"/>
            <a:ext cx="158760" cy="538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MARTPenAnnotation607"/>
          <p:cNvSpPr/>
          <p:nvPr/>
        </p:nvSpPr>
        <p:spPr>
          <a:xfrm>
            <a:off x="2549520" y="4446720"/>
            <a:ext cx="318960" cy="79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MARTPenAnnotation608"/>
          <p:cNvSpPr/>
          <p:nvPr/>
        </p:nvSpPr>
        <p:spPr>
          <a:xfrm>
            <a:off x="5394240" y="3817800"/>
            <a:ext cx="309600" cy="560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MARTPenAnnotation609"/>
          <p:cNvSpPr/>
          <p:nvPr/>
        </p:nvSpPr>
        <p:spPr>
          <a:xfrm>
            <a:off x="4903920" y="4765680"/>
            <a:ext cx="217440" cy="309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MARTPenAnnotation610"/>
          <p:cNvSpPr/>
          <p:nvPr/>
        </p:nvSpPr>
        <p:spPr>
          <a:xfrm>
            <a:off x="5178600" y="4822920"/>
            <a:ext cx="158400" cy="195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SMARTPenAnnotation611"/>
          <p:cNvSpPr/>
          <p:nvPr/>
        </p:nvSpPr>
        <p:spPr>
          <a:xfrm>
            <a:off x="5200560" y="4800600"/>
            <a:ext cx="92160" cy="206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MARTPenAnnotation612"/>
          <p:cNvSpPr/>
          <p:nvPr/>
        </p:nvSpPr>
        <p:spPr>
          <a:xfrm>
            <a:off x="5349960" y="4721400"/>
            <a:ext cx="171360" cy="114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MARTPenAnnotation613"/>
          <p:cNvSpPr/>
          <p:nvPr/>
        </p:nvSpPr>
        <p:spPr>
          <a:xfrm>
            <a:off x="5361120" y="4778280"/>
            <a:ext cx="112680" cy="1256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MARTPenAnnotation614"/>
          <p:cNvSpPr/>
          <p:nvPr/>
        </p:nvSpPr>
        <p:spPr>
          <a:xfrm>
            <a:off x="5600880" y="4811760"/>
            <a:ext cx="228600" cy="34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MARTPenAnnotation615"/>
          <p:cNvSpPr/>
          <p:nvPr/>
        </p:nvSpPr>
        <p:spPr>
          <a:xfrm>
            <a:off x="5703840" y="4721400"/>
            <a:ext cx="22320" cy="239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MARTPenAnnotation616"/>
          <p:cNvSpPr/>
          <p:nvPr/>
        </p:nvSpPr>
        <p:spPr>
          <a:xfrm>
            <a:off x="5864400" y="4618080"/>
            <a:ext cx="193680" cy="318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MARTPenAnnotation617"/>
          <p:cNvSpPr/>
          <p:nvPr/>
        </p:nvSpPr>
        <p:spPr>
          <a:xfrm>
            <a:off x="6058080" y="4708440"/>
            <a:ext cx="182520" cy="2066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MARTPenAnnotation618"/>
          <p:cNvSpPr/>
          <p:nvPr/>
        </p:nvSpPr>
        <p:spPr>
          <a:xfrm>
            <a:off x="6093000" y="4697280"/>
            <a:ext cx="79200" cy="217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MARTPenAnnotation619"/>
          <p:cNvSpPr/>
          <p:nvPr/>
        </p:nvSpPr>
        <p:spPr>
          <a:xfrm>
            <a:off x="6161040" y="4572000"/>
            <a:ext cx="217440" cy="114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SMARTPenAnnotation620"/>
          <p:cNvSpPr/>
          <p:nvPr/>
        </p:nvSpPr>
        <p:spPr>
          <a:xfrm>
            <a:off x="5280120" y="1154160"/>
            <a:ext cx="377640" cy="68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MARTPenAnnotation621"/>
          <p:cNvSpPr/>
          <p:nvPr/>
        </p:nvSpPr>
        <p:spPr>
          <a:xfrm>
            <a:off x="5429160" y="1039680"/>
            <a:ext cx="92160" cy="378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MARTPenAnnotation622"/>
          <p:cNvSpPr/>
          <p:nvPr/>
        </p:nvSpPr>
        <p:spPr>
          <a:xfrm>
            <a:off x="5680080" y="835200"/>
            <a:ext cx="295200" cy="558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MARTPenAnnotation623"/>
          <p:cNvSpPr/>
          <p:nvPr/>
        </p:nvSpPr>
        <p:spPr>
          <a:xfrm>
            <a:off x="6046920" y="1028880"/>
            <a:ext cx="250560" cy="2966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MARTPenAnnotation624"/>
          <p:cNvSpPr/>
          <p:nvPr/>
        </p:nvSpPr>
        <p:spPr>
          <a:xfrm>
            <a:off x="6022800" y="1050840"/>
            <a:ext cx="184320" cy="274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MARTPenAnnotation625"/>
          <p:cNvSpPr/>
          <p:nvPr/>
        </p:nvSpPr>
        <p:spPr>
          <a:xfrm>
            <a:off x="6308640" y="857160"/>
            <a:ext cx="217440" cy="193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MARTPenAnnotation626"/>
          <p:cNvSpPr/>
          <p:nvPr/>
        </p:nvSpPr>
        <p:spPr>
          <a:xfrm>
            <a:off x="4734000" y="4514760"/>
            <a:ext cx="831600" cy="6638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MARTPenAnnotation627"/>
          <p:cNvSpPr/>
          <p:nvPr/>
        </p:nvSpPr>
        <p:spPr>
          <a:xfrm>
            <a:off x="731880" y="1542960"/>
            <a:ext cx="628560" cy="9032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SMARTPenAnnotation628"/>
          <p:cNvSpPr/>
          <p:nvPr/>
        </p:nvSpPr>
        <p:spPr>
          <a:xfrm>
            <a:off x="4857840" y="5143680"/>
            <a:ext cx="215640" cy="353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MARTPenAnnotation629"/>
          <p:cNvSpPr/>
          <p:nvPr/>
        </p:nvSpPr>
        <p:spPr>
          <a:xfrm>
            <a:off x="5121360" y="5200560"/>
            <a:ext cx="136440" cy="217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MARTPenAnnotation630"/>
          <p:cNvSpPr/>
          <p:nvPr/>
        </p:nvSpPr>
        <p:spPr>
          <a:xfrm>
            <a:off x="5132520" y="5189400"/>
            <a:ext cx="114120" cy="193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MARTPenAnnotation631"/>
          <p:cNvSpPr/>
          <p:nvPr/>
        </p:nvSpPr>
        <p:spPr>
          <a:xfrm>
            <a:off x="5292720" y="5064120"/>
            <a:ext cx="136440" cy="182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MARTPenAnnotation632"/>
          <p:cNvSpPr/>
          <p:nvPr/>
        </p:nvSpPr>
        <p:spPr>
          <a:xfrm>
            <a:off x="5508720" y="5281560"/>
            <a:ext cx="217440" cy="11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MARTPenAnnotation633"/>
          <p:cNvSpPr/>
          <p:nvPr/>
        </p:nvSpPr>
        <p:spPr>
          <a:xfrm>
            <a:off x="5600880" y="5200560"/>
            <a:ext cx="10800" cy="250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MARTPenAnnotation634"/>
          <p:cNvSpPr/>
          <p:nvPr/>
        </p:nvSpPr>
        <p:spPr>
          <a:xfrm>
            <a:off x="5749920" y="5086440"/>
            <a:ext cx="360" cy="365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MARTPenAnnotation635"/>
          <p:cNvSpPr/>
          <p:nvPr/>
        </p:nvSpPr>
        <p:spPr>
          <a:xfrm>
            <a:off x="5842080" y="5040360"/>
            <a:ext cx="136440" cy="190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MARTPenAnnotation636"/>
          <p:cNvSpPr/>
          <p:nvPr/>
        </p:nvSpPr>
        <p:spPr>
          <a:xfrm>
            <a:off x="5934240" y="5029200"/>
            <a:ext cx="20520" cy="343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MARTPenAnnotation637"/>
          <p:cNvSpPr/>
          <p:nvPr/>
        </p:nvSpPr>
        <p:spPr>
          <a:xfrm>
            <a:off x="6012000" y="5121360"/>
            <a:ext cx="182520" cy="250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MARTPenAnnotation638"/>
          <p:cNvSpPr/>
          <p:nvPr/>
        </p:nvSpPr>
        <p:spPr>
          <a:xfrm>
            <a:off x="6035760" y="5097600"/>
            <a:ext cx="114120" cy="274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MARTPenAnnotation639"/>
          <p:cNvSpPr/>
          <p:nvPr/>
        </p:nvSpPr>
        <p:spPr>
          <a:xfrm>
            <a:off x="6172200" y="4984920"/>
            <a:ext cx="171360" cy="147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MARTPenAnnotation640"/>
          <p:cNvSpPr/>
          <p:nvPr/>
        </p:nvSpPr>
        <p:spPr>
          <a:xfrm>
            <a:off x="4640400" y="5075280"/>
            <a:ext cx="125280" cy="569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MARTPenAnnotation641"/>
          <p:cNvSpPr/>
          <p:nvPr/>
        </p:nvSpPr>
        <p:spPr>
          <a:xfrm>
            <a:off x="6343560" y="4822920"/>
            <a:ext cx="204840" cy="584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MARTPenAnnotation642"/>
          <p:cNvSpPr/>
          <p:nvPr/>
        </p:nvSpPr>
        <p:spPr>
          <a:xfrm>
            <a:off x="4194000" y="5372280"/>
            <a:ext cx="274680" cy="45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MARTPenAnnotation643"/>
          <p:cNvSpPr/>
          <p:nvPr/>
        </p:nvSpPr>
        <p:spPr>
          <a:xfrm>
            <a:off x="4492800" y="5440320"/>
            <a:ext cx="2171520" cy="206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MARTPenAnnotation644"/>
          <p:cNvSpPr/>
          <p:nvPr/>
        </p:nvSpPr>
        <p:spPr>
          <a:xfrm>
            <a:off x="5429160" y="5680080"/>
            <a:ext cx="250920" cy="12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MARTPenAnnotation645"/>
          <p:cNvSpPr/>
          <p:nvPr/>
        </p:nvSpPr>
        <p:spPr>
          <a:xfrm>
            <a:off x="5807160" y="5554800"/>
            <a:ext cx="22320" cy="274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MARTPenAnnotation646"/>
          <p:cNvSpPr/>
          <p:nvPr/>
        </p:nvSpPr>
        <p:spPr>
          <a:xfrm>
            <a:off x="5908680" y="5526000"/>
            <a:ext cx="206280" cy="268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MARTPenAnnotation647"/>
          <p:cNvSpPr/>
          <p:nvPr/>
        </p:nvSpPr>
        <p:spPr>
          <a:xfrm>
            <a:off x="6126120" y="5554800"/>
            <a:ext cx="182520" cy="239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MARTPenAnnotation648"/>
          <p:cNvSpPr/>
          <p:nvPr/>
        </p:nvSpPr>
        <p:spPr>
          <a:xfrm>
            <a:off x="6172200" y="5554800"/>
            <a:ext cx="103320" cy="228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MARTPenAnnotation649"/>
          <p:cNvSpPr/>
          <p:nvPr/>
        </p:nvSpPr>
        <p:spPr>
          <a:xfrm>
            <a:off x="6343560" y="5475240"/>
            <a:ext cx="182520" cy="147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MARTPenAnnotation650"/>
          <p:cNvSpPr/>
          <p:nvPr/>
        </p:nvSpPr>
        <p:spPr>
          <a:xfrm>
            <a:off x="6594480" y="5611680"/>
            <a:ext cx="228600" cy="33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MARTPenAnnotation651"/>
          <p:cNvSpPr/>
          <p:nvPr/>
        </p:nvSpPr>
        <p:spPr>
          <a:xfrm>
            <a:off x="6721560" y="5521320"/>
            <a:ext cx="9360" cy="228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MARTPenAnnotation652"/>
          <p:cNvSpPr/>
          <p:nvPr/>
        </p:nvSpPr>
        <p:spPr>
          <a:xfrm>
            <a:off x="6937200" y="5418000"/>
            <a:ext cx="155880" cy="2858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MARTPenAnnotation653"/>
          <p:cNvSpPr/>
          <p:nvPr/>
        </p:nvSpPr>
        <p:spPr>
          <a:xfrm>
            <a:off x="7165800" y="5497560"/>
            <a:ext cx="195480" cy="149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MARTPenAnnotation654"/>
          <p:cNvSpPr/>
          <p:nvPr/>
        </p:nvSpPr>
        <p:spPr>
          <a:xfrm>
            <a:off x="7155000" y="5440320"/>
            <a:ext cx="160200" cy="252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MARTPenAnnotation655"/>
          <p:cNvSpPr/>
          <p:nvPr/>
        </p:nvSpPr>
        <p:spPr>
          <a:xfrm>
            <a:off x="6583320" y="1143000"/>
            <a:ext cx="274680" cy="44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MARTPenAnnotation656"/>
          <p:cNvSpPr/>
          <p:nvPr/>
        </p:nvSpPr>
        <p:spPr>
          <a:xfrm>
            <a:off x="6937200" y="960480"/>
            <a:ext cx="92160" cy="422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MARTPenAnnotation657"/>
          <p:cNvSpPr/>
          <p:nvPr/>
        </p:nvSpPr>
        <p:spPr>
          <a:xfrm>
            <a:off x="7040520" y="995400"/>
            <a:ext cx="297000" cy="318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MARTPenAnnotation658"/>
          <p:cNvSpPr/>
          <p:nvPr/>
        </p:nvSpPr>
        <p:spPr>
          <a:xfrm>
            <a:off x="7350120" y="1085760"/>
            <a:ext cx="228600" cy="193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MARTPenAnnotation659"/>
          <p:cNvSpPr/>
          <p:nvPr/>
        </p:nvSpPr>
        <p:spPr>
          <a:xfrm>
            <a:off x="7315200" y="1096920"/>
            <a:ext cx="193680" cy="274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MARTPenAnnotation660"/>
          <p:cNvSpPr/>
          <p:nvPr/>
        </p:nvSpPr>
        <p:spPr>
          <a:xfrm>
            <a:off x="5589720" y="6012000"/>
            <a:ext cx="193680" cy="23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MARTPenAnnotation661"/>
          <p:cNvSpPr/>
          <p:nvPr/>
        </p:nvSpPr>
        <p:spPr>
          <a:xfrm>
            <a:off x="5875200" y="5851440"/>
            <a:ext cx="22320" cy="309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SMARTPenAnnotation662"/>
          <p:cNvSpPr/>
          <p:nvPr/>
        </p:nvSpPr>
        <p:spPr>
          <a:xfrm>
            <a:off x="5989680" y="5908680"/>
            <a:ext cx="193680" cy="206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MARTPenAnnotation663"/>
          <p:cNvSpPr/>
          <p:nvPr/>
        </p:nvSpPr>
        <p:spPr>
          <a:xfrm>
            <a:off x="6229440" y="5886360"/>
            <a:ext cx="114120" cy="193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MARTPenAnnotation664"/>
          <p:cNvSpPr/>
          <p:nvPr/>
        </p:nvSpPr>
        <p:spPr>
          <a:xfrm>
            <a:off x="6218280" y="5875200"/>
            <a:ext cx="114120" cy="228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SMARTPenAnnotation665"/>
          <p:cNvSpPr/>
          <p:nvPr/>
        </p:nvSpPr>
        <p:spPr>
          <a:xfrm>
            <a:off x="6365880" y="5818320"/>
            <a:ext cx="171360" cy="77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MARTPenAnnotation666"/>
          <p:cNvSpPr/>
          <p:nvPr/>
        </p:nvSpPr>
        <p:spPr>
          <a:xfrm>
            <a:off x="6572160" y="5965920"/>
            <a:ext cx="160560" cy="56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SMARTPenAnnotation667"/>
          <p:cNvSpPr/>
          <p:nvPr/>
        </p:nvSpPr>
        <p:spPr>
          <a:xfrm>
            <a:off x="6778800" y="5794200"/>
            <a:ext cx="204480" cy="252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MARTPenAnnotation668"/>
          <p:cNvSpPr/>
          <p:nvPr/>
        </p:nvSpPr>
        <p:spPr>
          <a:xfrm>
            <a:off x="7007400" y="5783400"/>
            <a:ext cx="101520" cy="91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MARTPenAnnotation669"/>
          <p:cNvSpPr/>
          <p:nvPr/>
        </p:nvSpPr>
        <p:spPr>
          <a:xfrm>
            <a:off x="7102440" y="5761080"/>
            <a:ext cx="6480" cy="2858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MARTPenAnnotation670"/>
          <p:cNvSpPr/>
          <p:nvPr/>
        </p:nvSpPr>
        <p:spPr>
          <a:xfrm>
            <a:off x="7201080" y="5783400"/>
            <a:ext cx="102960" cy="171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MARTPenAnnotation671"/>
          <p:cNvSpPr/>
          <p:nvPr/>
        </p:nvSpPr>
        <p:spPr>
          <a:xfrm>
            <a:off x="7211880" y="5783400"/>
            <a:ext cx="114480" cy="195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MARTPenAnnotation672"/>
          <p:cNvSpPr/>
          <p:nvPr/>
        </p:nvSpPr>
        <p:spPr>
          <a:xfrm>
            <a:off x="5326200" y="6194520"/>
            <a:ext cx="2000160" cy="160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MARTPenAnnotation673"/>
          <p:cNvSpPr/>
          <p:nvPr/>
        </p:nvSpPr>
        <p:spPr>
          <a:xfrm>
            <a:off x="5132520" y="6062760"/>
            <a:ext cx="193680" cy="6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MARTPenAnnotation674"/>
          <p:cNvSpPr/>
          <p:nvPr/>
        </p:nvSpPr>
        <p:spPr>
          <a:xfrm>
            <a:off x="5372280" y="5864400"/>
            <a:ext cx="102960" cy="399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MARTPenAnnotation675"/>
          <p:cNvSpPr/>
          <p:nvPr/>
        </p:nvSpPr>
        <p:spPr>
          <a:xfrm>
            <a:off x="7372440" y="5668920"/>
            <a:ext cx="123840" cy="399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MARTPenAnnotation676"/>
          <p:cNvSpPr/>
          <p:nvPr/>
        </p:nvSpPr>
        <p:spPr>
          <a:xfrm>
            <a:off x="6607080" y="6343560"/>
            <a:ext cx="216000" cy="301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MARTPenAnnotation677"/>
          <p:cNvSpPr/>
          <p:nvPr/>
        </p:nvSpPr>
        <p:spPr>
          <a:xfrm>
            <a:off x="6824520" y="6321600"/>
            <a:ext cx="112680" cy="125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MARTPenAnnotation678"/>
          <p:cNvSpPr/>
          <p:nvPr/>
        </p:nvSpPr>
        <p:spPr>
          <a:xfrm>
            <a:off x="6926400" y="6275520"/>
            <a:ext cx="34920" cy="318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SMARTPenAnnotation679"/>
          <p:cNvSpPr/>
          <p:nvPr/>
        </p:nvSpPr>
        <p:spPr>
          <a:xfrm>
            <a:off x="7007400" y="6354720"/>
            <a:ext cx="147600" cy="125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MARTPenAnnotation680"/>
          <p:cNvSpPr/>
          <p:nvPr/>
        </p:nvSpPr>
        <p:spPr>
          <a:xfrm>
            <a:off x="7040520" y="6321600"/>
            <a:ext cx="92160" cy="272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MARTPenAnnotation681"/>
          <p:cNvSpPr/>
          <p:nvPr/>
        </p:nvSpPr>
        <p:spPr>
          <a:xfrm>
            <a:off x="7350120" y="6365880"/>
            <a:ext cx="182520" cy="698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MARTPenAnnotation682"/>
          <p:cNvSpPr/>
          <p:nvPr/>
        </p:nvSpPr>
        <p:spPr>
          <a:xfrm>
            <a:off x="7612200" y="6240600"/>
            <a:ext cx="10800" cy="353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MARTPenAnnotation683"/>
          <p:cNvSpPr/>
          <p:nvPr/>
        </p:nvSpPr>
        <p:spPr>
          <a:xfrm>
            <a:off x="7715160" y="6264360"/>
            <a:ext cx="125640" cy="261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MARTPenAnnotation684"/>
          <p:cNvSpPr/>
          <p:nvPr/>
        </p:nvSpPr>
        <p:spPr>
          <a:xfrm>
            <a:off x="7726320" y="1189080"/>
            <a:ext cx="171360" cy="22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MARTPenAnnotation685"/>
          <p:cNvSpPr/>
          <p:nvPr/>
        </p:nvSpPr>
        <p:spPr>
          <a:xfrm>
            <a:off x="7783560" y="1108080"/>
            <a:ext cx="57240" cy="2858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MARTPenAnnotation686"/>
          <p:cNvSpPr/>
          <p:nvPr/>
        </p:nvSpPr>
        <p:spPr>
          <a:xfrm>
            <a:off x="7989840" y="1028880"/>
            <a:ext cx="114480" cy="285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MARTPenAnnotation687"/>
          <p:cNvSpPr/>
          <p:nvPr/>
        </p:nvSpPr>
        <p:spPr>
          <a:xfrm>
            <a:off x="8218440" y="1017720"/>
            <a:ext cx="136440" cy="136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MARTPenAnnotation688"/>
          <p:cNvSpPr/>
          <p:nvPr/>
        </p:nvSpPr>
        <p:spPr>
          <a:xfrm>
            <a:off x="8286840" y="982800"/>
            <a:ext cx="57240" cy="538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MARTPenAnnotation689"/>
          <p:cNvSpPr/>
          <p:nvPr/>
        </p:nvSpPr>
        <p:spPr>
          <a:xfrm>
            <a:off x="6721560" y="6743880"/>
            <a:ext cx="125280" cy="102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MARTPenAnnotation690"/>
          <p:cNvSpPr/>
          <p:nvPr/>
        </p:nvSpPr>
        <p:spPr>
          <a:xfrm>
            <a:off x="6892920" y="6664320"/>
            <a:ext cx="11160" cy="11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MARTPenAnnotation691"/>
          <p:cNvSpPr/>
          <p:nvPr/>
        </p:nvSpPr>
        <p:spPr>
          <a:xfrm>
            <a:off x="6885000" y="6708600"/>
            <a:ext cx="76320" cy="22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MARTPenAnnotation692"/>
          <p:cNvSpPr/>
          <p:nvPr/>
        </p:nvSpPr>
        <p:spPr>
          <a:xfrm>
            <a:off x="6972480" y="6629400"/>
            <a:ext cx="21960" cy="193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MARTPenAnnotation693"/>
          <p:cNvSpPr/>
          <p:nvPr/>
        </p:nvSpPr>
        <p:spPr>
          <a:xfrm>
            <a:off x="7051680" y="6697800"/>
            <a:ext cx="149400" cy="125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MARTPenAnnotation694"/>
          <p:cNvSpPr/>
          <p:nvPr/>
        </p:nvSpPr>
        <p:spPr>
          <a:xfrm>
            <a:off x="7064280" y="6664320"/>
            <a:ext cx="101520" cy="182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MARTPenAnnotation695"/>
          <p:cNvSpPr/>
          <p:nvPr/>
        </p:nvSpPr>
        <p:spPr>
          <a:xfrm>
            <a:off x="7315200" y="6743880"/>
            <a:ext cx="171360" cy="10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MARTPenAnnotation696"/>
          <p:cNvSpPr/>
          <p:nvPr/>
        </p:nvSpPr>
        <p:spPr>
          <a:xfrm>
            <a:off x="7407360" y="6640560"/>
            <a:ext cx="11160" cy="206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MARTPenAnnotation697"/>
          <p:cNvSpPr/>
          <p:nvPr/>
        </p:nvSpPr>
        <p:spPr>
          <a:xfrm>
            <a:off x="7589880" y="6618240"/>
            <a:ext cx="136440" cy="104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MARTPenAnnotation698"/>
          <p:cNvSpPr/>
          <p:nvPr/>
        </p:nvSpPr>
        <p:spPr>
          <a:xfrm>
            <a:off x="7680240" y="6607080"/>
            <a:ext cx="23760" cy="228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MARTPenAnnotation699"/>
          <p:cNvSpPr/>
          <p:nvPr/>
        </p:nvSpPr>
        <p:spPr>
          <a:xfrm>
            <a:off x="7773840" y="6515280"/>
            <a:ext cx="135000" cy="285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MARTPenAnnotation700"/>
          <p:cNvSpPr/>
          <p:nvPr/>
        </p:nvSpPr>
        <p:spPr>
          <a:xfrm>
            <a:off x="8080200" y="5829480"/>
            <a:ext cx="285840" cy="1004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MARTPenAnnotation701"/>
          <p:cNvSpPr/>
          <p:nvPr/>
        </p:nvSpPr>
        <p:spPr>
          <a:xfrm>
            <a:off x="8185320" y="5602320"/>
            <a:ext cx="284040" cy="407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MARTPenAnnotation702"/>
          <p:cNvSpPr/>
          <p:nvPr/>
        </p:nvSpPr>
        <p:spPr>
          <a:xfrm>
            <a:off x="8550360" y="5372280"/>
            <a:ext cx="164880" cy="79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SMARTPenAnnotation703"/>
          <p:cNvSpPr/>
          <p:nvPr/>
        </p:nvSpPr>
        <p:spPr>
          <a:xfrm>
            <a:off x="8826480" y="5132520"/>
            <a:ext cx="187200" cy="239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SMARTPenAnnotation704"/>
          <p:cNvSpPr/>
          <p:nvPr/>
        </p:nvSpPr>
        <p:spPr>
          <a:xfrm>
            <a:off x="9040680" y="4857840"/>
            <a:ext cx="92160" cy="307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MARTPenAnnotation705"/>
          <p:cNvSpPr/>
          <p:nvPr/>
        </p:nvSpPr>
        <p:spPr>
          <a:xfrm>
            <a:off x="8400960" y="1211400"/>
            <a:ext cx="263520" cy="68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MARTPenAnnotation706"/>
          <p:cNvSpPr/>
          <p:nvPr/>
        </p:nvSpPr>
        <p:spPr>
          <a:xfrm>
            <a:off x="8526600" y="1131840"/>
            <a:ext cx="10800" cy="2858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MARTPenAnnotation707"/>
          <p:cNvSpPr/>
          <p:nvPr/>
        </p:nvSpPr>
        <p:spPr>
          <a:xfrm>
            <a:off x="8656560" y="982800"/>
            <a:ext cx="144720" cy="34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MARTPenAnnotation708"/>
          <p:cNvSpPr/>
          <p:nvPr/>
        </p:nvSpPr>
        <p:spPr>
          <a:xfrm>
            <a:off x="8825040" y="781200"/>
            <a:ext cx="99720" cy="293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MARTPenAnnotation709"/>
          <p:cNvSpPr/>
          <p:nvPr/>
        </p:nvSpPr>
        <p:spPr>
          <a:xfrm>
            <a:off x="8985240" y="777960"/>
            <a:ext cx="111240" cy="268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MARTPenAnnotation710"/>
          <p:cNvSpPr/>
          <p:nvPr/>
        </p:nvSpPr>
        <p:spPr>
          <a:xfrm>
            <a:off x="8744040" y="1154160"/>
            <a:ext cx="388800" cy="68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MARTPenAnnotation711"/>
          <p:cNvSpPr/>
          <p:nvPr/>
        </p:nvSpPr>
        <p:spPr>
          <a:xfrm>
            <a:off x="8744040" y="1292400"/>
            <a:ext cx="125280" cy="204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SMARTPenAnnotation712"/>
          <p:cNvSpPr/>
          <p:nvPr/>
        </p:nvSpPr>
        <p:spPr>
          <a:xfrm>
            <a:off x="8697960" y="1325520"/>
            <a:ext cx="171360" cy="182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MARTPenAnnotation713"/>
          <p:cNvSpPr/>
          <p:nvPr/>
        </p:nvSpPr>
        <p:spPr>
          <a:xfrm>
            <a:off x="8904240" y="1371600"/>
            <a:ext cx="68400" cy="20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MARTPenAnnotation714"/>
          <p:cNvSpPr/>
          <p:nvPr/>
        </p:nvSpPr>
        <p:spPr>
          <a:xfrm>
            <a:off x="8961480" y="1325520"/>
            <a:ext cx="11160" cy="171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SMARTPenAnnotation715"/>
          <p:cNvSpPr/>
          <p:nvPr/>
        </p:nvSpPr>
        <p:spPr>
          <a:xfrm>
            <a:off x="9018720" y="1228680"/>
            <a:ext cx="114120" cy="2858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derstand the division algorithm, remainder theorem, and factor theor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sion algorith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 = d(x) * q(x) + r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inder theor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f(x) is divided by x-k, the remainder is f(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theor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 has x-k as a factor if and only if f(k)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SMARTPenAnnotation470"/>
          <p:cNvSpPr/>
          <p:nvPr/>
        </p:nvSpPr>
        <p:spPr>
          <a:xfrm>
            <a:off x="789120" y="2720880"/>
            <a:ext cx="730080" cy="31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SMARTPenAnnotation471"/>
          <p:cNvSpPr/>
          <p:nvPr/>
        </p:nvSpPr>
        <p:spPr>
          <a:xfrm>
            <a:off x="1913040" y="2171880"/>
            <a:ext cx="30240" cy="237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MARTPenAnnotation472"/>
          <p:cNvSpPr/>
          <p:nvPr/>
        </p:nvSpPr>
        <p:spPr>
          <a:xfrm>
            <a:off x="1839960" y="2138400"/>
            <a:ext cx="320760" cy="250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SMARTPenAnnotation473"/>
          <p:cNvSpPr/>
          <p:nvPr/>
        </p:nvSpPr>
        <p:spPr>
          <a:xfrm>
            <a:off x="2239920" y="2206800"/>
            <a:ext cx="34920" cy="1490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MARTPenAnnotation474"/>
          <p:cNvSpPr/>
          <p:nvPr/>
        </p:nvSpPr>
        <p:spPr>
          <a:xfrm>
            <a:off x="2193840" y="2136600"/>
            <a:ext cx="360" cy="24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MARTPenAnnotation475"/>
          <p:cNvSpPr/>
          <p:nvPr/>
        </p:nvSpPr>
        <p:spPr>
          <a:xfrm>
            <a:off x="2343240" y="2228760"/>
            <a:ext cx="171360" cy="149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SMARTPenAnnotation476"/>
          <p:cNvSpPr/>
          <p:nvPr/>
        </p:nvSpPr>
        <p:spPr>
          <a:xfrm>
            <a:off x="2536920" y="2228760"/>
            <a:ext cx="23760" cy="136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MARTPenAnnotation477"/>
          <p:cNvSpPr/>
          <p:nvPr/>
        </p:nvSpPr>
        <p:spPr>
          <a:xfrm>
            <a:off x="2536920" y="2149560"/>
            <a:ext cx="12600" cy="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MARTPenAnnotation478"/>
          <p:cNvSpPr/>
          <p:nvPr/>
        </p:nvSpPr>
        <p:spPr>
          <a:xfrm>
            <a:off x="2664000" y="2206800"/>
            <a:ext cx="99720" cy="147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SMARTPenAnnotation479"/>
          <p:cNvSpPr/>
          <p:nvPr/>
        </p:nvSpPr>
        <p:spPr>
          <a:xfrm>
            <a:off x="2817720" y="2206800"/>
            <a:ext cx="128520" cy="136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MARTPenAnnotation480"/>
          <p:cNvSpPr/>
          <p:nvPr/>
        </p:nvSpPr>
        <p:spPr>
          <a:xfrm>
            <a:off x="2994120" y="2193840"/>
            <a:ext cx="171360" cy="136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MARTPenAnnotation481"/>
          <p:cNvSpPr/>
          <p:nvPr/>
        </p:nvSpPr>
        <p:spPr>
          <a:xfrm>
            <a:off x="3325680" y="2151000"/>
            <a:ext cx="195480" cy="349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MARTPenAnnotation482"/>
          <p:cNvSpPr/>
          <p:nvPr/>
        </p:nvSpPr>
        <p:spPr>
          <a:xfrm>
            <a:off x="3578400" y="2149560"/>
            <a:ext cx="114120" cy="136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SMARTPenAnnotation483"/>
          <p:cNvSpPr/>
          <p:nvPr/>
        </p:nvSpPr>
        <p:spPr>
          <a:xfrm>
            <a:off x="3727440" y="2182680"/>
            <a:ext cx="111240" cy="125640"/>
          </a:xfrm>
          <a:prstGeom prst="pie">
            <a:avLst/>
          </a:prstGeom>
          <a:solidFill>
            <a:srgbClr val="ffcc00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MARTPenAnnotation484"/>
          <p:cNvSpPr/>
          <p:nvPr/>
        </p:nvSpPr>
        <p:spPr>
          <a:xfrm>
            <a:off x="3921120" y="2057400"/>
            <a:ext cx="68400" cy="263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MARTPenAnnotation485"/>
          <p:cNvSpPr/>
          <p:nvPr/>
        </p:nvSpPr>
        <p:spPr>
          <a:xfrm>
            <a:off x="3886200" y="2187720"/>
            <a:ext cx="210960" cy="109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MARTPenAnnotation486"/>
          <p:cNvSpPr/>
          <p:nvPr/>
        </p:nvSpPr>
        <p:spPr>
          <a:xfrm>
            <a:off x="4114800" y="2114640"/>
            <a:ext cx="22320" cy="11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MARTPenAnnotation487"/>
          <p:cNvSpPr/>
          <p:nvPr/>
        </p:nvSpPr>
        <p:spPr>
          <a:xfrm>
            <a:off x="4149720" y="2114640"/>
            <a:ext cx="171360" cy="193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MARTPenAnnotation488"/>
          <p:cNvSpPr/>
          <p:nvPr/>
        </p:nvSpPr>
        <p:spPr>
          <a:xfrm>
            <a:off x="4343400" y="2114640"/>
            <a:ext cx="263520" cy="114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MARTPenAnnotation489"/>
          <p:cNvSpPr/>
          <p:nvPr/>
        </p:nvSpPr>
        <p:spPr>
          <a:xfrm>
            <a:off x="4594320" y="1954080"/>
            <a:ext cx="137880" cy="285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MARTPenAnnotation490"/>
          <p:cNvSpPr/>
          <p:nvPr/>
        </p:nvSpPr>
        <p:spPr>
          <a:xfrm>
            <a:off x="4503600" y="2011320"/>
            <a:ext cx="217800" cy="34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MARTPenAnnotation491"/>
          <p:cNvSpPr/>
          <p:nvPr/>
        </p:nvSpPr>
        <p:spPr>
          <a:xfrm>
            <a:off x="4789440" y="2389320"/>
            <a:ext cx="239760" cy="225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MARTPenAnnotation492"/>
          <p:cNvSpPr/>
          <p:nvPr/>
        </p:nvSpPr>
        <p:spPr>
          <a:xfrm>
            <a:off x="4983120" y="2428920"/>
            <a:ext cx="492120" cy="222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MARTPenAnnotation493"/>
          <p:cNvSpPr/>
          <p:nvPr/>
        </p:nvSpPr>
        <p:spPr>
          <a:xfrm>
            <a:off x="5521320" y="2454120"/>
            <a:ext cx="285840" cy="220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SMARTPenAnnotation494"/>
          <p:cNvSpPr/>
          <p:nvPr/>
        </p:nvSpPr>
        <p:spPr>
          <a:xfrm>
            <a:off x="5851440" y="2481120"/>
            <a:ext cx="171360" cy="203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MARTPenAnnotation495"/>
          <p:cNvSpPr/>
          <p:nvPr/>
        </p:nvSpPr>
        <p:spPr>
          <a:xfrm>
            <a:off x="6059520" y="2303640"/>
            <a:ext cx="363600" cy="4140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MARTPenAnnotation496"/>
          <p:cNvSpPr/>
          <p:nvPr/>
        </p:nvSpPr>
        <p:spPr>
          <a:xfrm>
            <a:off x="6446880" y="2479680"/>
            <a:ext cx="204840" cy="228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SMARTPenAnnotation497"/>
          <p:cNvSpPr/>
          <p:nvPr/>
        </p:nvSpPr>
        <p:spPr>
          <a:xfrm>
            <a:off x="5715000" y="2263680"/>
            <a:ext cx="3240" cy="360"/>
          </a:xfrm>
          <a:prstGeom prst="pie">
            <a:avLst/>
          </a:prstGeom>
          <a:solidFill>
            <a:srgbClr val="ffcc00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SMARTPenAnnotation498"/>
          <p:cNvSpPr/>
          <p:nvPr/>
        </p:nvSpPr>
        <p:spPr>
          <a:xfrm>
            <a:off x="7064280" y="1486080"/>
            <a:ext cx="57240" cy="399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MARTPenAnnotation499"/>
          <p:cNvSpPr/>
          <p:nvPr/>
        </p:nvSpPr>
        <p:spPr>
          <a:xfrm>
            <a:off x="7189920" y="1487520"/>
            <a:ext cx="415800" cy="272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MARTPenAnnotation500"/>
          <p:cNvSpPr/>
          <p:nvPr/>
        </p:nvSpPr>
        <p:spPr>
          <a:xfrm>
            <a:off x="6983280" y="1851120"/>
            <a:ext cx="675000" cy="127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SMARTPenAnnotation501"/>
          <p:cNvSpPr/>
          <p:nvPr/>
        </p:nvSpPr>
        <p:spPr>
          <a:xfrm>
            <a:off x="7178760" y="2035080"/>
            <a:ext cx="250920" cy="295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MARTPenAnnotation502"/>
          <p:cNvSpPr/>
          <p:nvPr/>
        </p:nvSpPr>
        <p:spPr>
          <a:xfrm>
            <a:off x="7807320" y="1828800"/>
            <a:ext cx="158760" cy="22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SMARTPenAnnotation503"/>
          <p:cNvSpPr/>
          <p:nvPr/>
        </p:nvSpPr>
        <p:spPr>
          <a:xfrm>
            <a:off x="7818480" y="1954080"/>
            <a:ext cx="160200" cy="11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MARTPenAnnotation504"/>
          <p:cNvSpPr/>
          <p:nvPr/>
        </p:nvSpPr>
        <p:spPr>
          <a:xfrm>
            <a:off x="8093160" y="1589040"/>
            <a:ext cx="271440" cy="639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MARTPenAnnotation505"/>
          <p:cNvSpPr/>
          <p:nvPr/>
        </p:nvSpPr>
        <p:spPr>
          <a:xfrm>
            <a:off x="8550360" y="1817640"/>
            <a:ext cx="101520" cy="177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SMARTPenAnnotation506"/>
          <p:cNvSpPr/>
          <p:nvPr/>
        </p:nvSpPr>
        <p:spPr>
          <a:xfrm>
            <a:off x="8744040" y="1657440"/>
            <a:ext cx="228600" cy="549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SMARTPenAnnotation311"/>
          <p:cNvSpPr/>
          <p:nvPr/>
        </p:nvSpPr>
        <p:spPr>
          <a:xfrm>
            <a:off x="1143000" y="914400"/>
            <a:ext cx="285840" cy="433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MARTPenAnnotation312"/>
          <p:cNvSpPr/>
          <p:nvPr/>
        </p:nvSpPr>
        <p:spPr>
          <a:xfrm>
            <a:off x="1092240" y="925560"/>
            <a:ext cx="290520" cy="442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SMARTPenAnnotation313"/>
          <p:cNvSpPr/>
          <p:nvPr/>
        </p:nvSpPr>
        <p:spPr>
          <a:xfrm>
            <a:off x="1441440" y="744480"/>
            <a:ext cx="352440" cy="335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SMARTPenAnnotation314"/>
          <p:cNvSpPr/>
          <p:nvPr/>
        </p:nvSpPr>
        <p:spPr>
          <a:xfrm>
            <a:off x="1839960" y="1039680"/>
            <a:ext cx="353880" cy="68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MARTPenAnnotation315"/>
          <p:cNvSpPr/>
          <p:nvPr/>
        </p:nvSpPr>
        <p:spPr>
          <a:xfrm>
            <a:off x="2062080" y="925560"/>
            <a:ext cx="17640" cy="423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SMARTPenAnnotation316"/>
          <p:cNvSpPr/>
          <p:nvPr/>
        </p:nvSpPr>
        <p:spPr>
          <a:xfrm>
            <a:off x="2286000" y="779400"/>
            <a:ext cx="411120" cy="522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SMARTPenAnnotation317"/>
          <p:cNvSpPr/>
          <p:nvPr/>
        </p:nvSpPr>
        <p:spPr>
          <a:xfrm>
            <a:off x="2778120" y="961920"/>
            <a:ext cx="250920" cy="282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MARTPenAnnotation318"/>
          <p:cNvSpPr/>
          <p:nvPr/>
        </p:nvSpPr>
        <p:spPr>
          <a:xfrm>
            <a:off x="2624040" y="949320"/>
            <a:ext cx="347760" cy="392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SMARTPenAnnotation319"/>
          <p:cNvSpPr/>
          <p:nvPr/>
        </p:nvSpPr>
        <p:spPr>
          <a:xfrm>
            <a:off x="3075120" y="1028880"/>
            <a:ext cx="376200" cy="56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SMARTPenAnnotation320"/>
          <p:cNvSpPr/>
          <p:nvPr/>
        </p:nvSpPr>
        <p:spPr>
          <a:xfrm>
            <a:off x="3211560" y="925560"/>
            <a:ext cx="33120" cy="399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SMARTPenAnnotation321"/>
          <p:cNvSpPr/>
          <p:nvPr/>
        </p:nvSpPr>
        <p:spPr>
          <a:xfrm>
            <a:off x="3475080" y="800280"/>
            <a:ext cx="409680" cy="502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MARTPenAnnotation322"/>
          <p:cNvSpPr/>
          <p:nvPr/>
        </p:nvSpPr>
        <p:spPr>
          <a:xfrm>
            <a:off x="835200" y="1508040"/>
            <a:ext cx="3162240" cy="217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MARTPenAnnotation323"/>
          <p:cNvSpPr/>
          <p:nvPr/>
        </p:nvSpPr>
        <p:spPr>
          <a:xfrm>
            <a:off x="1887480" y="1749600"/>
            <a:ext cx="409680" cy="330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SMARTPenAnnotation324"/>
          <p:cNvSpPr/>
          <p:nvPr/>
        </p:nvSpPr>
        <p:spPr>
          <a:xfrm>
            <a:off x="1749600" y="1725480"/>
            <a:ext cx="457200" cy="492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SMARTPenAnnotation325"/>
          <p:cNvSpPr/>
          <p:nvPr/>
        </p:nvSpPr>
        <p:spPr>
          <a:xfrm>
            <a:off x="2435400" y="1897200"/>
            <a:ext cx="307800" cy="46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SMARTPenAnnotation326"/>
          <p:cNvSpPr/>
          <p:nvPr/>
        </p:nvSpPr>
        <p:spPr>
          <a:xfrm>
            <a:off x="2789280" y="1692360"/>
            <a:ext cx="387360" cy="468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SMARTPenAnnotation327"/>
          <p:cNvSpPr/>
          <p:nvPr/>
        </p:nvSpPr>
        <p:spPr>
          <a:xfrm>
            <a:off x="6915240" y="593640"/>
            <a:ext cx="57240" cy="6285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MARTPenAnnotation328"/>
          <p:cNvSpPr/>
          <p:nvPr/>
        </p:nvSpPr>
        <p:spPr>
          <a:xfrm>
            <a:off x="6961320" y="731880"/>
            <a:ext cx="260280" cy="398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SMARTPenAnnotation329"/>
          <p:cNvSpPr/>
          <p:nvPr/>
        </p:nvSpPr>
        <p:spPr>
          <a:xfrm>
            <a:off x="7269120" y="789120"/>
            <a:ext cx="285840" cy="46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SMARTPenAnnotation330"/>
          <p:cNvSpPr/>
          <p:nvPr/>
        </p:nvSpPr>
        <p:spPr>
          <a:xfrm>
            <a:off x="7280280" y="879480"/>
            <a:ext cx="342720" cy="81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SMARTPenAnnotation331"/>
          <p:cNvSpPr/>
          <p:nvPr/>
        </p:nvSpPr>
        <p:spPr>
          <a:xfrm>
            <a:off x="7750080" y="571680"/>
            <a:ext cx="420840" cy="525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SMARTPenAnnotation332"/>
          <p:cNvSpPr/>
          <p:nvPr/>
        </p:nvSpPr>
        <p:spPr>
          <a:xfrm>
            <a:off x="3622680" y="2685960"/>
            <a:ext cx="274680" cy="571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SMARTPenAnnotation333"/>
          <p:cNvSpPr/>
          <p:nvPr/>
        </p:nvSpPr>
        <p:spPr>
          <a:xfrm>
            <a:off x="3611520" y="2778120"/>
            <a:ext cx="309600" cy="3650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MARTPenAnnotation334"/>
          <p:cNvSpPr/>
          <p:nvPr/>
        </p:nvSpPr>
        <p:spPr>
          <a:xfrm>
            <a:off x="4068720" y="2936880"/>
            <a:ext cx="195480" cy="23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MARTPenAnnotation335"/>
          <p:cNvSpPr/>
          <p:nvPr/>
        </p:nvSpPr>
        <p:spPr>
          <a:xfrm>
            <a:off x="4405320" y="2676600"/>
            <a:ext cx="309600" cy="409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MARTPenAnnotation336"/>
          <p:cNvSpPr/>
          <p:nvPr/>
        </p:nvSpPr>
        <p:spPr>
          <a:xfrm>
            <a:off x="4869000" y="2343240"/>
            <a:ext cx="3052800" cy="8794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SMARTPenAnnotation337"/>
          <p:cNvSpPr/>
          <p:nvPr/>
        </p:nvSpPr>
        <p:spPr>
          <a:xfrm>
            <a:off x="5097600" y="2664000"/>
            <a:ext cx="423720" cy="3870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SMARTPenAnnotation338"/>
          <p:cNvSpPr/>
          <p:nvPr/>
        </p:nvSpPr>
        <p:spPr>
          <a:xfrm>
            <a:off x="5154480" y="2674800"/>
            <a:ext cx="206640" cy="400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SMARTPenAnnotation339"/>
          <p:cNvSpPr/>
          <p:nvPr/>
        </p:nvSpPr>
        <p:spPr>
          <a:xfrm>
            <a:off x="5475240" y="2560680"/>
            <a:ext cx="217440" cy="272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SMARTPenAnnotation340"/>
          <p:cNvSpPr/>
          <p:nvPr/>
        </p:nvSpPr>
        <p:spPr>
          <a:xfrm>
            <a:off x="5840280" y="2800440"/>
            <a:ext cx="389160" cy="680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SMARTPenAnnotation341"/>
          <p:cNvSpPr/>
          <p:nvPr/>
        </p:nvSpPr>
        <p:spPr>
          <a:xfrm>
            <a:off x="6000840" y="2685960"/>
            <a:ext cx="68040" cy="400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SMARTPenAnnotation342"/>
          <p:cNvSpPr/>
          <p:nvPr/>
        </p:nvSpPr>
        <p:spPr>
          <a:xfrm>
            <a:off x="6068880" y="3086280"/>
            <a:ext cx="3240" cy="360"/>
          </a:xfrm>
          <a:prstGeom prst="pie">
            <a:avLst/>
          </a:prstGeom>
          <a:solidFill>
            <a:srgbClr val="ffcc00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SMARTPenAnnotation343"/>
          <p:cNvSpPr/>
          <p:nvPr/>
        </p:nvSpPr>
        <p:spPr>
          <a:xfrm>
            <a:off x="6275520" y="2538360"/>
            <a:ext cx="479160" cy="455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SMARTPenAnnotation344"/>
          <p:cNvSpPr/>
          <p:nvPr/>
        </p:nvSpPr>
        <p:spPr>
          <a:xfrm>
            <a:off x="6675480" y="2664000"/>
            <a:ext cx="433440" cy="330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MARTPenAnnotation345"/>
          <p:cNvSpPr/>
          <p:nvPr/>
        </p:nvSpPr>
        <p:spPr>
          <a:xfrm>
            <a:off x="6640560" y="2664000"/>
            <a:ext cx="377640" cy="3585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SMARTPenAnnotation346"/>
          <p:cNvSpPr/>
          <p:nvPr/>
        </p:nvSpPr>
        <p:spPr>
          <a:xfrm>
            <a:off x="7223040" y="2765520"/>
            <a:ext cx="343080" cy="12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SMARTPenAnnotation347"/>
          <p:cNvSpPr/>
          <p:nvPr/>
        </p:nvSpPr>
        <p:spPr>
          <a:xfrm>
            <a:off x="7337520" y="2639880"/>
            <a:ext cx="102960" cy="363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SMARTPenAnnotation348"/>
          <p:cNvSpPr/>
          <p:nvPr/>
        </p:nvSpPr>
        <p:spPr>
          <a:xfrm>
            <a:off x="7589880" y="2525760"/>
            <a:ext cx="214200" cy="433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SMARTPenAnnotation349"/>
          <p:cNvSpPr/>
          <p:nvPr/>
        </p:nvSpPr>
        <p:spPr>
          <a:xfrm>
            <a:off x="1498680" y="1488960"/>
            <a:ext cx="2077920" cy="9795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SMARTPenAnnotation350"/>
          <p:cNvSpPr/>
          <p:nvPr/>
        </p:nvSpPr>
        <p:spPr>
          <a:xfrm>
            <a:off x="2949480" y="1635120"/>
            <a:ext cx="3240" cy="360"/>
          </a:xfrm>
          <a:prstGeom prst="pie">
            <a:avLst/>
          </a:prstGeom>
          <a:solidFill>
            <a:srgbClr val="ffcc00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SMARTPenAnnotation351"/>
          <p:cNvSpPr/>
          <p:nvPr/>
        </p:nvSpPr>
        <p:spPr>
          <a:xfrm>
            <a:off x="4492800" y="1668600"/>
            <a:ext cx="365040" cy="263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SMARTPenAnnotation352"/>
          <p:cNvSpPr/>
          <p:nvPr/>
        </p:nvSpPr>
        <p:spPr>
          <a:xfrm>
            <a:off x="4457880" y="1600200"/>
            <a:ext cx="296640" cy="3650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SMARTPenAnnotation353"/>
          <p:cNvSpPr/>
          <p:nvPr/>
        </p:nvSpPr>
        <p:spPr>
          <a:xfrm>
            <a:off x="4789440" y="1725480"/>
            <a:ext cx="308160" cy="57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SMARTPenAnnotation354"/>
          <p:cNvSpPr/>
          <p:nvPr/>
        </p:nvSpPr>
        <p:spPr>
          <a:xfrm>
            <a:off x="5211720" y="1496880"/>
            <a:ext cx="34920" cy="435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SMARTPenAnnotation355"/>
          <p:cNvSpPr/>
          <p:nvPr/>
        </p:nvSpPr>
        <p:spPr>
          <a:xfrm>
            <a:off x="5167440" y="1589040"/>
            <a:ext cx="512640" cy="228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MARTPenAnnotation356"/>
          <p:cNvSpPr/>
          <p:nvPr/>
        </p:nvSpPr>
        <p:spPr>
          <a:xfrm>
            <a:off x="6391440" y="1943280"/>
            <a:ext cx="215640" cy="342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SMARTPenAnnotation357"/>
          <p:cNvSpPr/>
          <p:nvPr/>
        </p:nvSpPr>
        <p:spPr>
          <a:xfrm>
            <a:off x="6321600" y="1954080"/>
            <a:ext cx="307800" cy="285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MARTPenAnnotation358"/>
          <p:cNvSpPr/>
          <p:nvPr/>
        </p:nvSpPr>
        <p:spPr>
          <a:xfrm>
            <a:off x="5178600" y="3314880"/>
            <a:ext cx="296640" cy="3776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SMARTPenAnnotation359"/>
          <p:cNvSpPr/>
          <p:nvPr/>
        </p:nvSpPr>
        <p:spPr>
          <a:xfrm>
            <a:off x="5165640" y="3303720"/>
            <a:ext cx="252360" cy="433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SMARTPenAnnotation360"/>
          <p:cNvSpPr/>
          <p:nvPr/>
        </p:nvSpPr>
        <p:spPr>
          <a:xfrm>
            <a:off x="5429160" y="3159000"/>
            <a:ext cx="285840" cy="212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MARTPenAnnotation361"/>
          <p:cNvSpPr/>
          <p:nvPr/>
        </p:nvSpPr>
        <p:spPr>
          <a:xfrm>
            <a:off x="5715000" y="3349800"/>
            <a:ext cx="3240" cy="360"/>
          </a:xfrm>
          <a:prstGeom prst="pie">
            <a:avLst/>
          </a:prstGeom>
          <a:solidFill>
            <a:srgbClr val="ffcc00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MARTPenAnnotation362"/>
          <p:cNvSpPr/>
          <p:nvPr/>
        </p:nvSpPr>
        <p:spPr>
          <a:xfrm>
            <a:off x="5875200" y="3486240"/>
            <a:ext cx="262080" cy="34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SMARTPenAnnotation363"/>
          <p:cNvSpPr/>
          <p:nvPr/>
        </p:nvSpPr>
        <p:spPr>
          <a:xfrm>
            <a:off x="6218280" y="3195720"/>
            <a:ext cx="272880" cy="415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MARTPenAnnotation364"/>
          <p:cNvSpPr/>
          <p:nvPr/>
        </p:nvSpPr>
        <p:spPr>
          <a:xfrm>
            <a:off x="6537240" y="3325680"/>
            <a:ext cx="298440" cy="285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SMARTPenAnnotation365"/>
          <p:cNvSpPr/>
          <p:nvPr/>
        </p:nvSpPr>
        <p:spPr>
          <a:xfrm>
            <a:off x="6618240" y="3371760"/>
            <a:ext cx="182520" cy="274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SMARTPenAnnotation366"/>
          <p:cNvSpPr/>
          <p:nvPr/>
        </p:nvSpPr>
        <p:spPr>
          <a:xfrm>
            <a:off x="4229280" y="3463920"/>
            <a:ext cx="421920" cy="795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SMARTPenAnnotation367"/>
          <p:cNvSpPr/>
          <p:nvPr/>
        </p:nvSpPr>
        <p:spPr>
          <a:xfrm>
            <a:off x="4789440" y="3222720"/>
            <a:ext cx="171360" cy="549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SMARTPenAnnotation368"/>
          <p:cNvSpPr/>
          <p:nvPr/>
        </p:nvSpPr>
        <p:spPr>
          <a:xfrm>
            <a:off x="6664320" y="3154320"/>
            <a:ext cx="314280" cy="571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SMARTPenAnnotation369"/>
          <p:cNvSpPr/>
          <p:nvPr/>
        </p:nvSpPr>
        <p:spPr>
          <a:xfrm>
            <a:off x="4778280" y="3886200"/>
            <a:ext cx="2422800" cy="1144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SMARTPenAnnotation370"/>
          <p:cNvSpPr/>
          <p:nvPr/>
        </p:nvSpPr>
        <p:spPr>
          <a:xfrm>
            <a:off x="6308640" y="4024440"/>
            <a:ext cx="297000" cy="444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SMARTPenAnnotation371"/>
          <p:cNvSpPr/>
          <p:nvPr/>
        </p:nvSpPr>
        <p:spPr>
          <a:xfrm>
            <a:off x="6675480" y="4068720"/>
            <a:ext cx="307800" cy="353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SMARTPenAnnotation372"/>
          <p:cNvSpPr/>
          <p:nvPr/>
        </p:nvSpPr>
        <p:spPr>
          <a:xfrm>
            <a:off x="6697800" y="4079880"/>
            <a:ext cx="228600" cy="388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SMARTPenAnnotation373"/>
          <p:cNvSpPr/>
          <p:nvPr/>
        </p:nvSpPr>
        <p:spPr>
          <a:xfrm>
            <a:off x="7108920" y="4160880"/>
            <a:ext cx="366480" cy="68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SMARTPenAnnotation374"/>
          <p:cNvSpPr/>
          <p:nvPr/>
        </p:nvSpPr>
        <p:spPr>
          <a:xfrm>
            <a:off x="7223040" y="4022640"/>
            <a:ext cx="127080" cy="366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SMARTPenAnnotation375"/>
          <p:cNvSpPr/>
          <p:nvPr/>
        </p:nvSpPr>
        <p:spPr>
          <a:xfrm>
            <a:off x="7508880" y="3909960"/>
            <a:ext cx="285840" cy="433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SMARTPenAnnotation376"/>
          <p:cNvSpPr/>
          <p:nvPr/>
        </p:nvSpPr>
        <p:spPr>
          <a:xfrm>
            <a:off x="6983280" y="2035080"/>
            <a:ext cx="125640" cy="285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MARTPenAnnotation377"/>
          <p:cNvSpPr/>
          <p:nvPr/>
        </p:nvSpPr>
        <p:spPr>
          <a:xfrm>
            <a:off x="6869160" y="2136600"/>
            <a:ext cx="366840" cy="35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160" bIns="-11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MARTPenAnnotation378"/>
          <p:cNvSpPr/>
          <p:nvPr/>
        </p:nvSpPr>
        <p:spPr>
          <a:xfrm>
            <a:off x="7394400" y="1870200"/>
            <a:ext cx="263880" cy="519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MARTPenAnnotation379"/>
          <p:cNvSpPr/>
          <p:nvPr/>
        </p:nvSpPr>
        <p:spPr>
          <a:xfrm>
            <a:off x="7475400" y="2114640"/>
            <a:ext cx="319320" cy="34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SMARTPenAnnotation380"/>
          <p:cNvSpPr/>
          <p:nvPr/>
        </p:nvSpPr>
        <p:spPr>
          <a:xfrm>
            <a:off x="6354720" y="4560840"/>
            <a:ext cx="285840" cy="479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MARTPenAnnotation381"/>
          <p:cNvSpPr/>
          <p:nvPr/>
        </p:nvSpPr>
        <p:spPr>
          <a:xfrm>
            <a:off x="6765840" y="4640400"/>
            <a:ext cx="309600" cy="239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SMARTPenAnnotation382"/>
          <p:cNvSpPr/>
          <p:nvPr/>
        </p:nvSpPr>
        <p:spPr>
          <a:xfrm>
            <a:off x="6778800" y="4594320"/>
            <a:ext cx="250560" cy="355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SMARTPenAnnotation383"/>
          <p:cNvSpPr/>
          <p:nvPr/>
        </p:nvSpPr>
        <p:spPr>
          <a:xfrm>
            <a:off x="7236000" y="4606920"/>
            <a:ext cx="228600" cy="11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SMARTPenAnnotation384"/>
          <p:cNvSpPr/>
          <p:nvPr/>
        </p:nvSpPr>
        <p:spPr>
          <a:xfrm>
            <a:off x="7554960" y="4422600"/>
            <a:ext cx="189000" cy="446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SMARTPenAnnotation385"/>
          <p:cNvSpPr/>
          <p:nvPr/>
        </p:nvSpPr>
        <p:spPr>
          <a:xfrm>
            <a:off x="7843680" y="4334040"/>
            <a:ext cx="328680" cy="455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SMARTPenAnnotation386"/>
          <p:cNvSpPr/>
          <p:nvPr/>
        </p:nvSpPr>
        <p:spPr>
          <a:xfrm>
            <a:off x="5692680" y="4822920"/>
            <a:ext cx="354240" cy="69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SMARTPenAnnotation387"/>
          <p:cNvSpPr/>
          <p:nvPr/>
        </p:nvSpPr>
        <p:spPr>
          <a:xfrm>
            <a:off x="6137280" y="5037120"/>
            <a:ext cx="1531800" cy="1414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SMARTPenAnnotation388"/>
          <p:cNvSpPr/>
          <p:nvPr/>
        </p:nvSpPr>
        <p:spPr>
          <a:xfrm>
            <a:off x="7688160" y="5030640"/>
            <a:ext cx="88920" cy="50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SMARTPenAnnotation389"/>
          <p:cNvSpPr/>
          <p:nvPr/>
        </p:nvSpPr>
        <p:spPr>
          <a:xfrm>
            <a:off x="7831080" y="5029200"/>
            <a:ext cx="281160" cy="3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SMARTPenAnnotation390"/>
          <p:cNvSpPr/>
          <p:nvPr/>
        </p:nvSpPr>
        <p:spPr>
          <a:xfrm>
            <a:off x="8286840" y="5064120"/>
            <a:ext cx="11160" cy="11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SMARTPenAnnotation391"/>
          <p:cNvSpPr/>
          <p:nvPr/>
        </p:nvSpPr>
        <p:spPr>
          <a:xfrm>
            <a:off x="6119640" y="4457880"/>
            <a:ext cx="98640" cy="571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SMARTPenAnnotation392"/>
          <p:cNvSpPr/>
          <p:nvPr/>
        </p:nvSpPr>
        <p:spPr>
          <a:xfrm>
            <a:off x="8126280" y="4137120"/>
            <a:ext cx="285840" cy="7095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SMARTPenAnnotation393"/>
          <p:cNvSpPr/>
          <p:nvPr/>
        </p:nvSpPr>
        <p:spPr>
          <a:xfrm>
            <a:off x="7566120" y="5076720"/>
            <a:ext cx="341280" cy="363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MARTPenAnnotation394"/>
          <p:cNvSpPr/>
          <p:nvPr/>
        </p:nvSpPr>
        <p:spPr>
          <a:xfrm>
            <a:off x="8069400" y="4994280"/>
            <a:ext cx="228600" cy="492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SMARTPenAnnotation395"/>
          <p:cNvSpPr/>
          <p:nvPr/>
        </p:nvSpPr>
        <p:spPr>
          <a:xfrm>
            <a:off x="8012160" y="2068560"/>
            <a:ext cx="284040" cy="810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SMARTPenAnnotation396"/>
          <p:cNvSpPr/>
          <p:nvPr/>
        </p:nvSpPr>
        <p:spPr>
          <a:xfrm>
            <a:off x="8115480" y="1965240"/>
            <a:ext cx="68040" cy="355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SMARTPenAnnotation397"/>
          <p:cNvSpPr/>
          <p:nvPr/>
        </p:nvSpPr>
        <p:spPr>
          <a:xfrm>
            <a:off x="8389800" y="1806480"/>
            <a:ext cx="154080" cy="306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SMARTPenAnnotation398"/>
          <p:cNvSpPr/>
          <p:nvPr/>
        </p:nvSpPr>
        <p:spPr>
          <a:xfrm>
            <a:off x="8596440" y="1760400"/>
            <a:ext cx="182520" cy="3304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SMARTPenAnnotation399"/>
          <p:cNvSpPr/>
          <p:nvPr/>
        </p:nvSpPr>
        <p:spPr>
          <a:xfrm>
            <a:off x="8286840" y="2160720"/>
            <a:ext cx="753840" cy="114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SMARTPenAnnotation400"/>
          <p:cNvSpPr/>
          <p:nvPr/>
        </p:nvSpPr>
        <p:spPr>
          <a:xfrm>
            <a:off x="8275680" y="2389320"/>
            <a:ext cx="285840" cy="2044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SMARTPenAnnotation401"/>
          <p:cNvSpPr/>
          <p:nvPr/>
        </p:nvSpPr>
        <p:spPr>
          <a:xfrm>
            <a:off x="8332920" y="2411280"/>
            <a:ext cx="160200" cy="239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SMARTPenAnnotation402"/>
          <p:cNvSpPr/>
          <p:nvPr/>
        </p:nvSpPr>
        <p:spPr>
          <a:xfrm>
            <a:off x="8572680" y="2468520"/>
            <a:ext cx="171360" cy="23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SMARTPenAnnotation403"/>
          <p:cNvSpPr/>
          <p:nvPr/>
        </p:nvSpPr>
        <p:spPr>
          <a:xfrm>
            <a:off x="8732880" y="2332080"/>
            <a:ext cx="214200" cy="250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SMARTPenAnnotation404"/>
          <p:cNvSpPr/>
          <p:nvPr/>
        </p:nvSpPr>
        <p:spPr>
          <a:xfrm>
            <a:off x="1557360" y="2314440"/>
            <a:ext cx="1617480" cy="2574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SMARTPenAnnotation405"/>
          <p:cNvSpPr/>
          <p:nvPr/>
        </p:nvSpPr>
        <p:spPr>
          <a:xfrm>
            <a:off x="1622520" y="2435400"/>
            <a:ext cx="4680" cy="360"/>
          </a:xfrm>
          <a:prstGeom prst="pie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SMARTPenAnnotation406"/>
          <p:cNvSpPr/>
          <p:nvPr/>
        </p:nvSpPr>
        <p:spPr>
          <a:xfrm>
            <a:off x="6000840" y="2365200"/>
            <a:ext cx="1652400" cy="1717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SMARTPenAnnotation407"/>
          <p:cNvSpPr/>
          <p:nvPr/>
        </p:nvSpPr>
        <p:spPr>
          <a:xfrm>
            <a:off x="206280" y="3006720"/>
            <a:ext cx="319320" cy="765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SMARTPenAnnotation408"/>
          <p:cNvSpPr/>
          <p:nvPr/>
        </p:nvSpPr>
        <p:spPr>
          <a:xfrm>
            <a:off x="468360" y="3257640"/>
            <a:ext cx="244440" cy="3078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SMARTPenAnnotation409"/>
          <p:cNvSpPr/>
          <p:nvPr/>
        </p:nvSpPr>
        <p:spPr>
          <a:xfrm>
            <a:off x="446040" y="3268800"/>
            <a:ext cx="274680" cy="3204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SMARTPenAnnotation410"/>
          <p:cNvSpPr/>
          <p:nvPr/>
        </p:nvSpPr>
        <p:spPr>
          <a:xfrm>
            <a:off x="846000" y="3382920"/>
            <a:ext cx="285840" cy="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MARTPenAnnotation411"/>
          <p:cNvSpPr/>
          <p:nvPr/>
        </p:nvSpPr>
        <p:spPr>
          <a:xfrm>
            <a:off x="1160640" y="3132000"/>
            <a:ext cx="279360" cy="3654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SMARTPenAnnotation412"/>
          <p:cNvSpPr/>
          <p:nvPr/>
        </p:nvSpPr>
        <p:spPr>
          <a:xfrm>
            <a:off x="1417680" y="2936880"/>
            <a:ext cx="271440" cy="6634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SMARTPenAnnotation413"/>
          <p:cNvSpPr/>
          <p:nvPr/>
        </p:nvSpPr>
        <p:spPr>
          <a:xfrm>
            <a:off x="1760400" y="3006720"/>
            <a:ext cx="182880" cy="5587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SMARTPenAnnotation414"/>
          <p:cNvSpPr/>
          <p:nvPr/>
        </p:nvSpPr>
        <p:spPr>
          <a:xfrm>
            <a:off x="1932120" y="3165480"/>
            <a:ext cx="217440" cy="2858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SMARTPenAnnotation415"/>
          <p:cNvSpPr/>
          <p:nvPr/>
        </p:nvSpPr>
        <p:spPr>
          <a:xfrm>
            <a:off x="1886040" y="3189240"/>
            <a:ext cx="274680" cy="239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MARTPenAnnotation416"/>
          <p:cNvSpPr/>
          <p:nvPr/>
        </p:nvSpPr>
        <p:spPr>
          <a:xfrm>
            <a:off x="2193840" y="3246480"/>
            <a:ext cx="206640" cy="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SMARTPenAnnotation417"/>
          <p:cNvSpPr/>
          <p:nvPr/>
        </p:nvSpPr>
        <p:spPr>
          <a:xfrm>
            <a:off x="2297160" y="3143160"/>
            <a:ext cx="11160" cy="2746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SMARTPenAnnotation418"/>
          <p:cNvSpPr/>
          <p:nvPr/>
        </p:nvSpPr>
        <p:spPr>
          <a:xfrm>
            <a:off x="2411280" y="3030480"/>
            <a:ext cx="308160" cy="4334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SMARTPenAnnotation419"/>
          <p:cNvSpPr/>
          <p:nvPr/>
        </p:nvSpPr>
        <p:spPr>
          <a:xfrm>
            <a:off x="2720880" y="2914560"/>
            <a:ext cx="273240" cy="5828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SMARTPenAnnotation420"/>
          <p:cNvSpPr/>
          <p:nvPr/>
        </p:nvSpPr>
        <p:spPr>
          <a:xfrm>
            <a:off x="457200" y="3921120"/>
            <a:ext cx="353880" cy="3650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MARTPenAnnotation421"/>
          <p:cNvSpPr/>
          <p:nvPr/>
        </p:nvSpPr>
        <p:spPr>
          <a:xfrm>
            <a:off x="422280" y="3932280"/>
            <a:ext cx="309600" cy="3538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SMARTPenAnnotation422"/>
          <p:cNvSpPr/>
          <p:nvPr/>
        </p:nvSpPr>
        <p:spPr>
          <a:xfrm>
            <a:off x="777960" y="3807000"/>
            <a:ext cx="307800" cy="1936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SMARTPenAnnotation423"/>
          <p:cNvSpPr/>
          <p:nvPr/>
        </p:nvSpPr>
        <p:spPr>
          <a:xfrm>
            <a:off x="1177920" y="4125960"/>
            <a:ext cx="297000" cy="34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MARTPenAnnotation424"/>
          <p:cNvSpPr/>
          <p:nvPr/>
        </p:nvSpPr>
        <p:spPr>
          <a:xfrm>
            <a:off x="1314360" y="4011480"/>
            <a:ext cx="22320" cy="320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SMARTPenAnnotation425"/>
          <p:cNvSpPr/>
          <p:nvPr/>
        </p:nvSpPr>
        <p:spPr>
          <a:xfrm>
            <a:off x="1577880" y="3921120"/>
            <a:ext cx="365400" cy="3650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SMARTPenAnnotation426"/>
          <p:cNvSpPr/>
          <p:nvPr/>
        </p:nvSpPr>
        <p:spPr>
          <a:xfrm>
            <a:off x="1978200" y="4022640"/>
            <a:ext cx="272880" cy="252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SMARTPenAnnotation427"/>
          <p:cNvSpPr/>
          <p:nvPr/>
        </p:nvSpPr>
        <p:spPr>
          <a:xfrm>
            <a:off x="1943280" y="4022640"/>
            <a:ext cx="274320" cy="2635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SMARTPenAnnotation428"/>
          <p:cNvSpPr/>
          <p:nvPr/>
        </p:nvSpPr>
        <p:spPr>
          <a:xfrm>
            <a:off x="2435400" y="4149720"/>
            <a:ext cx="239400" cy="111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SMARTPenAnnotation429"/>
          <p:cNvSpPr/>
          <p:nvPr/>
        </p:nvSpPr>
        <p:spPr>
          <a:xfrm>
            <a:off x="2754360" y="3954600"/>
            <a:ext cx="285840" cy="3427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SMARTPenAnnotation430"/>
          <p:cNvSpPr/>
          <p:nvPr/>
        </p:nvSpPr>
        <p:spPr>
          <a:xfrm>
            <a:off x="3041640" y="3922560"/>
            <a:ext cx="328680" cy="3067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SMARTPenAnnotation431"/>
          <p:cNvSpPr/>
          <p:nvPr/>
        </p:nvSpPr>
        <p:spPr>
          <a:xfrm>
            <a:off x="3532320" y="4079880"/>
            <a:ext cx="285480" cy="34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MARTPenAnnotation432"/>
          <p:cNvSpPr/>
          <p:nvPr/>
        </p:nvSpPr>
        <p:spPr>
          <a:xfrm>
            <a:off x="3646440" y="3897360"/>
            <a:ext cx="103320" cy="4237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SMARTPenAnnotation433"/>
          <p:cNvSpPr/>
          <p:nvPr/>
        </p:nvSpPr>
        <p:spPr>
          <a:xfrm>
            <a:off x="3840120" y="3840120"/>
            <a:ext cx="308160" cy="4557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MARTPenAnnotation434"/>
          <p:cNvSpPr/>
          <p:nvPr/>
        </p:nvSpPr>
        <p:spPr>
          <a:xfrm>
            <a:off x="4241880" y="3795840"/>
            <a:ext cx="191880" cy="4730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SMARTPenAnnotation435"/>
          <p:cNvSpPr/>
          <p:nvPr/>
        </p:nvSpPr>
        <p:spPr>
          <a:xfrm>
            <a:off x="1292400" y="4549680"/>
            <a:ext cx="350640" cy="1256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SMARTPenAnnotation436"/>
          <p:cNvSpPr/>
          <p:nvPr/>
        </p:nvSpPr>
        <p:spPr>
          <a:xfrm>
            <a:off x="1303200" y="4686480"/>
            <a:ext cx="389160" cy="2062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SMARTPenAnnotation437"/>
          <p:cNvSpPr/>
          <p:nvPr/>
        </p:nvSpPr>
        <p:spPr>
          <a:xfrm>
            <a:off x="1989000" y="4549680"/>
            <a:ext cx="365400" cy="400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SMARTPenAnnotation438"/>
          <p:cNvSpPr/>
          <p:nvPr/>
        </p:nvSpPr>
        <p:spPr>
          <a:xfrm>
            <a:off x="2070000" y="4549680"/>
            <a:ext cx="250920" cy="4334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SMARTPenAnnotation439"/>
          <p:cNvSpPr/>
          <p:nvPr/>
        </p:nvSpPr>
        <p:spPr>
          <a:xfrm>
            <a:off x="2389320" y="4435560"/>
            <a:ext cx="331560" cy="2286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MARTPenAnnotation440"/>
          <p:cNvSpPr/>
          <p:nvPr/>
        </p:nvSpPr>
        <p:spPr>
          <a:xfrm>
            <a:off x="2925720" y="4664160"/>
            <a:ext cx="217440" cy="331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SMARTPenAnnotation441"/>
          <p:cNvSpPr/>
          <p:nvPr/>
        </p:nvSpPr>
        <p:spPr>
          <a:xfrm>
            <a:off x="2960640" y="4537080"/>
            <a:ext cx="114480" cy="3556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SMARTPenAnnotation442"/>
          <p:cNvSpPr/>
          <p:nvPr/>
        </p:nvSpPr>
        <p:spPr>
          <a:xfrm>
            <a:off x="3178080" y="4394160"/>
            <a:ext cx="308160" cy="4525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MARTPenAnnotation443"/>
          <p:cNvSpPr/>
          <p:nvPr/>
        </p:nvSpPr>
        <p:spPr>
          <a:xfrm>
            <a:off x="3532320" y="4560840"/>
            <a:ext cx="331560" cy="2970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SMARTPenAnnotation444"/>
          <p:cNvSpPr/>
          <p:nvPr/>
        </p:nvSpPr>
        <p:spPr>
          <a:xfrm>
            <a:off x="3565440" y="4514760"/>
            <a:ext cx="217440" cy="4352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SMARTPenAnnotation445"/>
          <p:cNvSpPr/>
          <p:nvPr/>
        </p:nvSpPr>
        <p:spPr>
          <a:xfrm>
            <a:off x="4022640" y="4618080"/>
            <a:ext cx="298440" cy="460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SMARTPenAnnotation446"/>
          <p:cNvSpPr/>
          <p:nvPr/>
        </p:nvSpPr>
        <p:spPr>
          <a:xfrm>
            <a:off x="4125960" y="4492800"/>
            <a:ext cx="138240" cy="3078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SMARTPenAnnotation447"/>
          <p:cNvSpPr/>
          <p:nvPr/>
        </p:nvSpPr>
        <p:spPr>
          <a:xfrm>
            <a:off x="4354560" y="4311720"/>
            <a:ext cx="307800" cy="4539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SMARTPenAnnotation448"/>
          <p:cNvSpPr/>
          <p:nvPr/>
        </p:nvSpPr>
        <p:spPr>
          <a:xfrm>
            <a:off x="1911240" y="4835520"/>
            <a:ext cx="2867040" cy="2840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SMARTPenAnnotation449"/>
          <p:cNvSpPr/>
          <p:nvPr/>
        </p:nvSpPr>
        <p:spPr>
          <a:xfrm>
            <a:off x="3395520" y="5235480"/>
            <a:ext cx="330480" cy="662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SMARTPenAnnotation450"/>
          <p:cNvSpPr/>
          <p:nvPr/>
        </p:nvSpPr>
        <p:spPr>
          <a:xfrm>
            <a:off x="3189240" y="5635800"/>
            <a:ext cx="422280" cy="79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SMARTPenAnnotation451"/>
          <p:cNvSpPr/>
          <p:nvPr/>
        </p:nvSpPr>
        <p:spPr>
          <a:xfrm>
            <a:off x="3648240" y="5235480"/>
            <a:ext cx="215640" cy="571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SMARTPenAnnotation452"/>
          <p:cNvSpPr/>
          <p:nvPr/>
        </p:nvSpPr>
        <p:spPr>
          <a:xfrm>
            <a:off x="3841920" y="5418000"/>
            <a:ext cx="304560" cy="444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SMARTPenAnnotation453"/>
          <p:cNvSpPr/>
          <p:nvPr/>
        </p:nvSpPr>
        <p:spPr>
          <a:xfrm>
            <a:off x="4022640" y="5222880"/>
            <a:ext cx="308160" cy="639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SMARTPenAnnotation454"/>
          <p:cNvSpPr/>
          <p:nvPr/>
        </p:nvSpPr>
        <p:spPr>
          <a:xfrm>
            <a:off x="4378320" y="5372280"/>
            <a:ext cx="228600" cy="68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MARTPenAnnotation455"/>
          <p:cNvSpPr/>
          <p:nvPr/>
        </p:nvSpPr>
        <p:spPr>
          <a:xfrm>
            <a:off x="4425840" y="5464080"/>
            <a:ext cx="157320" cy="33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SMARTPenAnnotation456"/>
          <p:cNvSpPr/>
          <p:nvPr/>
        </p:nvSpPr>
        <p:spPr>
          <a:xfrm>
            <a:off x="4754520" y="5132520"/>
            <a:ext cx="263520" cy="536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SMARTPenAnnotation457"/>
          <p:cNvSpPr/>
          <p:nvPr/>
        </p:nvSpPr>
        <p:spPr>
          <a:xfrm>
            <a:off x="5064120" y="4925880"/>
            <a:ext cx="250920" cy="263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SMARTPenAnnotation458"/>
          <p:cNvSpPr/>
          <p:nvPr/>
        </p:nvSpPr>
        <p:spPr>
          <a:xfrm>
            <a:off x="5326200" y="5407200"/>
            <a:ext cx="217440" cy="10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SMARTPenAnnotation459"/>
          <p:cNvSpPr/>
          <p:nvPr/>
        </p:nvSpPr>
        <p:spPr>
          <a:xfrm>
            <a:off x="5440320" y="5268960"/>
            <a:ext cx="57240" cy="423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SMARTPenAnnotation460"/>
          <p:cNvSpPr/>
          <p:nvPr/>
        </p:nvSpPr>
        <p:spPr>
          <a:xfrm>
            <a:off x="5737320" y="5211720"/>
            <a:ext cx="23760" cy="461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MARTPenAnnotation461"/>
          <p:cNvSpPr/>
          <p:nvPr/>
        </p:nvSpPr>
        <p:spPr>
          <a:xfrm>
            <a:off x="5886360" y="5189400"/>
            <a:ext cx="149400" cy="411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SMARTPenAnnotation462"/>
          <p:cNvSpPr/>
          <p:nvPr/>
        </p:nvSpPr>
        <p:spPr>
          <a:xfrm>
            <a:off x="6183360" y="5349960"/>
            <a:ext cx="217440" cy="11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SMARTPenAnnotation463"/>
          <p:cNvSpPr/>
          <p:nvPr/>
        </p:nvSpPr>
        <p:spPr>
          <a:xfrm>
            <a:off x="6265800" y="5211720"/>
            <a:ext cx="42840" cy="399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MARTPenAnnotation464"/>
          <p:cNvSpPr/>
          <p:nvPr/>
        </p:nvSpPr>
        <p:spPr>
          <a:xfrm>
            <a:off x="6332400" y="5191200"/>
            <a:ext cx="284400" cy="4316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SMARTPenAnnotation465"/>
          <p:cNvSpPr/>
          <p:nvPr/>
        </p:nvSpPr>
        <p:spPr>
          <a:xfrm>
            <a:off x="4262400" y="6103800"/>
            <a:ext cx="309600" cy="11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SMARTPenAnnotation466"/>
          <p:cNvSpPr/>
          <p:nvPr/>
        </p:nvSpPr>
        <p:spPr>
          <a:xfrm>
            <a:off x="4275000" y="6254640"/>
            <a:ext cx="308160" cy="77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SMARTPenAnnotation467"/>
          <p:cNvSpPr/>
          <p:nvPr/>
        </p:nvSpPr>
        <p:spPr>
          <a:xfrm>
            <a:off x="4664160" y="5843520"/>
            <a:ext cx="307800" cy="6098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SMARTPenAnnotation468"/>
          <p:cNvSpPr/>
          <p:nvPr/>
        </p:nvSpPr>
        <p:spPr>
          <a:xfrm>
            <a:off x="4995720" y="5811840"/>
            <a:ext cx="328680" cy="598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SMARTPenAnnotation469"/>
          <p:cNvSpPr/>
          <p:nvPr/>
        </p:nvSpPr>
        <p:spPr>
          <a:xfrm>
            <a:off x="4606920" y="6515280"/>
            <a:ext cx="776160" cy="34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remem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f(x) has a degree of 1 or greater, the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aph of y=f(x) has a x-intercept 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zero of f(x) is k.  Basically, f(k)=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actor of f(x) is (x-k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SMARTPenAnnotation321"/>
          <p:cNvSpPr/>
          <p:nvPr/>
        </p:nvSpPr>
        <p:spPr>
          <a:xfrm>
            <a:off x="5635800" y="982800"/>
            <a:ext cx="1301400" cy="149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SMARTPenAnnotation322"/>
          <p:cNvSpPr/>
          <p:nvPr/>
        </p:nvSpPr>
        <p:spPr>
          <a:xfrm>
            <a:off x="6251400" y="514440"/>
            <a:ext cx="81000" cy="11318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SMARTPenAnnotation323"/>
          <p:cNvSpPr/>
          <p:nvPr/>
        </p:nvSpPr>
        <p:spPr>
          <a:xfrm>
            <a:off x="5646600" y="297000"/>
            <a:ext cx="1108080" cy="1325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SMARTPenAnnotation324"/>
          <p:cNvSpPr/>
          <p:nvPr/>
        </p:nvSpPr>
        <p:spPr>
          <a:xfrm>
            <a:off x="7888320" y="344520"/>
            <a:ext cx="123840" cy="1519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SMARTPenAnnotation325"/>
          <p:cNvSpPr/>
          <p:nvPr/>
        </p:nvSpPr>
        <p:spPr>
          <a:xfrm>
            <a:off x="7086600" y="971640"/>
            <a:ext cx="1450800" cy="228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SMARTPenAnnotation326"/>
          <p:cNvSpPr/>
          <p:nvPr/>
        </p:nvSpPr>
        <p:spPr>
          <a:xfrm>
            <a:off x="7429680" y="320760"/>
            <a:ext cx="879120" cy="1290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SMARTPenAnnotation327"/>
          <p:cNvSpPr/>
          <p:nvPr/>
        </p:nvSpPr>
        <p:spPr>
          <a:xfrm>
            <a:off x="5932440" y="1063800"/>
            <a:ext cx="79560" cy="1015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MARTPenAnnotation328"/>
          <p:cNvSpPr/>
          <p:nvPr/>
        </p:nvSpPr>
        <p:spPr>
          <a:xfrm>
            <a:off x="5886360" y="1336680"/>
            <a:ext cx="171720" cy="2635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SMARTPenAnnotation329"/>
          <p:cNvSpPr/>
          <p:nvPr/>
        </p:nvSpPr>
        <p:spPr>
          <a:xfrm>
            <a:off x="5749920" y="1577880"/>
            <a:ext cx="101520" cy="572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SMARTPenAnnotation330"/>
          <p:cNvSpPr/>
          <p:nvPr/>
        </p:nvSpPr>
        <p:spPr>
          <a:xfrm>
            <a:off x="7486560" y="1057320"/>
            <a:ext cx="77760" cy="1080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SMARTPenAnnotation331"/>
          <p:cNvSpPr/>
          <p:nvPr/>
        </p:nvSpPr>
        <p:spPr>
          <a:xfrm>
            <a:off x="8183520" y="973080"/>
            <a:ext cx="125280" cy="1126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SMARTPenAnnotation332"/>
          <p:cNvSpPr/>
          <p:nvPr/>
        </p:nvSpPr>
        <p:spPr>
          <a:xfrm>
            <a:off x="7155000" y="1440000"/>
            <a:ext cx="125280" cy="237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SMARTPenAnnotation333"/>
          <p:cNvSpPr/>
          <p:nvPr/>
        </p:nvSpPr>
        <p:spPr>
          <a:xfrm>
            <a:off x="7361280" y="1268280"/>
            <a:ext cx="136440" cy="1605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SMARTPenAnnotation334"/>
          <p:cNvSpPr/>
          <p:nvPr/>
        </p:nvSpPr>
        <p:spPr>
          <a:xfrm>
            <a:off x="7431120" y="1292400"/>
            <a:ext cx="66600" cy="3650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SMARTPenAnnotation335"/>
          <p:cNvSpPr/>
          <p:nvPr/>
        </p:nvSpPr>
        <p:spPr>
          <a:xfrm>
            <a:off x="8308800" y="1227240"/>
            <a:ext cx="160560" cy="1188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SMARTPenAnnotation336"/>
          <p:cNvSpPr/>
          <p:nvPr/>
        </p:nvSpPr>
        <p:spPr>
          <a:xfrm>
            <a:off x="8389800" y="1165320"/>
            <a:ext cx="68400" cy="3729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SMARTPenAnnotation337"/>
          <p:cNvSpPr/>
          <p:nvPr/>
        </p:nvSpPr>
        <p:spPr>
          <a:xfrm>
            <a:off x="6973920" y="593640"/>
            <a:ext cx="101520" cy="399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SMARTPenAnnotation338"/>
          <p:cNvSpPr/>
          <p:nvPr/>
        </p:nvSpPr>
        <p:spPr>
          <a:xfrm>
            <a:off x="7018200" y="743040"/>
            <a:ext cx="204840" cy="193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SMARTPenAnnotation339"/>
          <p:cNvSpPr/>
          <p:nvPr/>
        </p:nvSpPr>
        <p:spPr>
          <a:xfrm>
            <a:off x="7054920" y="708120"/>
            <a:ext cx="88920" cy="263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SMARTPenAnnotation340"/>
          <p:cNvSpPr/>
          <p:nvPr/>
        </p:nvSpPr>
        <p:spPr>
          <a:xfrm>
            <a:off x="7201080" y="765000"/>
            <a:ext cx="171360" cy="35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160" bIns="-11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SMARTPenAnnotation341"/>
          <p:cNvSpPr/>
          <p:nvPr/>
        </p:nvSpPr>
        <p:spPr>
          <a:xfrm>
            <a:off x="7223040" y="685800"/>
            <a:ext cx="92160" cy="274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SMARTPenAnnotation342"/>
          <p:cNvSpPr/>
          <p:nvPr/>
        </p:nvSpPr>
        <p:spPr>
          <a:xfrm>
            <a:off x="7361280" y="606600"/>
            <a:ext cx="160200" cy="144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MARTPenAnnotation343"/>
          <p:cNvSpPr/>
          <p:nvPr/>
        </p:nvSpPr>
        <p:spPr>
          <a:xfrm>
            <a:off x="7464600" y="571680"/>
            <a:ext cx="56880" cy="353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SMARTPenAnnotation344"/>
          <p:cNvSpPr/>
          <p:nvPr/>
        </p:nvSpPr>
        <p:spPr>
          <a:xfrm>
            <a:off x="7475400" y="536400"/>
            <a:ext cx="147600" cy="343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SMARTPenAnnotation345"/>
          <p:cNvSpPr/>
          <p:nvPr/>
        </p:nvSpPr>
        <p:spPr>
          <a:xfrm>
            <a:off x="8207280" y="468360"/>
            <a:ext cx="147600" cy="388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SMARTPenAnnotation346"/>
          <p:cNvSpPr/>
          <p:nvPr/>
        </p:nvSpPr>
        <p:spPr>
          <a:xfrm>
            <a:off x="8344080" y="571680"/>
            <a:ext cx="182520" cy="217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SMARTPenAnnotation347"/>
          <p:cNvSpPr/>
          <p:nvPr/>
        </p:nvSpPr>
        <p:spPr>
          <a:xfrm>
            <a:off x="8332920" y="549360"/>
            <a:ext cx="136440" cy="234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SMARTPenAnnotation348"/>
          <p:cNvSpPr/>
          <p:nvPr/>
        </p:nvSpPr>
        <p:spPr>
          <a:xfrm>
            <a:off x="8515440" y="617400"/>
            <a:ext cx="136440" cy="46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SMARTPenAnnotation349"/>
          <p:cNvSpPr/>
          <p:nvPr/>
        </p:nvSpPr>
        <p:spPr>
          <a:xfrm>
            <a:off x="8686800" y="492120"/>
            <a:ext cx="136440" cy="95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SMARTPenAnnotation350"/>
          <p:cNvSpPr/>
          <p:nvPr/>
        </p:nvSpPr>
        <p:spPr>
          <a:xfrm>
            <a:off x="8801280" y="446040"/>
            <a:ext cx="10800" cy="274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SMARTPenAnnotation351"/>
          <p:cNvSpPr/>
          <p:nvPr/>
        </p:nvSpPr>
        <p:spPr>
          <a:xfrm>
            <a:off x="8823240" y="320760"/>
            <a:ext cx="125640" cy="457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SMARTPenAnnotation352"/>
          <p:cNvSpPr/>
          <p:nvPr/>
        </p:nvSpPr>
        <p:spPr>
          <a:xfrm>
            <a:off x="239760" y="4618080"/>
            <a:ext cx="2995560" cy="572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SMARTPenAnnotation353"/>
          <p:cNvSpPr/>
          <p:nvPr/>
        </p:nvSpPr>
        <p:spPr>
          <a:xfrm>
            <a:off x="1554120" y="3429000"/>
            <a:ext cx="136440" cy="27367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SMARTPenAnnotation354"/>
          <p:cNvSpPr/>
          <p:nvPr/>
        </p:nvSpPr>
        <p:spPr>
          <a:xfrm>
            <a:off x="485640" y="3776760"/>
            <a:ext cx="2560680" cy="19605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SMARTPenAnnotation355"/>
          <p:cNvSpPr/>
          <p:nvPr/>
        </p:nvSpPr>
        <p:spPr>
          <a:xfrm>
            <a:off x="452520" y="4633920"/>
            <a:ext cx="119160" cy="98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SMARTPenAnnotation356"/>
          <p:cNvSpPr/>
          <p:nvPr/>
        </p:nvSpPr>
        <p:spPr>
          <a:xfrm>
            <a:off x="1371600" y="4584600"/>
            <a:ext cx="181080" cy="88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SMARTPenAnnotation357"/>
          <p:cNvSpPr/>
          <p:nvPr/>
        </p:nvSpPr>
        <p:spPr>
          <a:xfrm>
            <a:off x="2703600" y="4594320"/>
            <a:ext cx="141120" cy="109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MARTPenAnnotation358"/>
          <p:cNvSpPr/>
          <p:nvPr/>
        </p:nvSpPr>
        <p:spPr>
          <a:xfrm>
            <a:off x="57240" y="4378320"/>
            <a:ext cx="171360" cy="11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SMARTPenAnnotation359"/>
          <p:cNvSpPr/>
          <p:nvPr/>
        </p:nvSpPr>
        <p:spPr>
          <a:xfrm>
            <a:off x="219240" y="4172040"/>
            <a:ext cx="209520" cy="261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SMARTPenAnnotation360"/>
          <p:cNvSpPr/>
          <p:nvPr/>
        </p:nvSpPr>
        <p:spPr>
          <a:xfrm>
            <a:off x="1063800" y="4903920"/>
            <a:ext cx="147600" cy="21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MARTPenAnnotation361"/>
          <p:cNvSpPr/>
          <p:nvPr/>
        </p:nvSpPr>
        <p:spPr>
          <a:xfrm>
            <a:off x="1308240" y="4745160"/>
            <a:ext cx="28440" cy="169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SMARTPenAnnotation362"/>
          <p:cNvSpPr/>
          <p:nvPr/>
        </p:nvSpPr>
        <p:spPr>
          <a:xfrm>
            <a:off x="1189080" y="5051520"/>
            <a:ext cx="239760" cy="12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SMARTPenAnnotation363"/>
          <p:cNvSpPr/>
          <p:nvPr/>
        </p:nvSpPr>
        <p:spPr>
          <a:xfrm>
            <a:off x="1235160" y="5154480"/>
            <a:ext cx="193680" cy="182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SMARTPenAnnotation364"/>
          <p:cNvSpPr/>
          <p:nvPr/>
        </p:nvSpPr>
        <p:spPr>
          <a:xfrm>
            <a:off x="2778120" y="4881600"/>
            <a:ext cx="216000" cy="2840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SMARTPenAnnotation365"/>
          <p:cNvSpPr/>
          <p:nvPr/>
        </p:nvSpPr>
        <p:spPr>
          <a:xfrm>
            <a:off x="365040" y="4440240"/>
            <a:ext cx="81000" cy="1317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SMARTPenAnnotation366"/>
          <p:cNvSpPr/>
          <p:nvPr/>
        </p:nvSpPr>
        <p:spPr>
          <a:xfrm>
            <a:off x="525600" y="4251240"/>
            <a:ext cx="228600" cy="2286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MARTPenAnnotation367"/>
          <p:cNvSpPr/>
          <p:nvPr/>
        </p:nvSpPr>
        <p:spPr>
          <a:xfrm>
            <a:off x="1474920" y="5189400"/>
            <a:ext cx="68040" cy="1605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SMARTPenAnnotation368"/>
          <p:cNvSpPr/>
          <p:nvPr/>
        </p:nvSpPr>
        <p:spPr>
          <a:xfrm>
            <a:off x="1617840" y="4938840"/>
            <a:ext cx="263520" cy="3412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SMARTPenAnnotation369"/>
          <p:cNvSpPr/>
          <p:nvPr/>
        </p:nvSpPr>
        <p:spPr>
          <a:xfrm>
            <a:off x="3051000" y="5200560"/>
            <a:ext cx="81000" cy="1364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SMARTPenAnnotation370"/>
          <p:cNvSpPr/>
          <p:nvPr/>
        </p:nvSpPr>
        <p:spPr>
          <a:xfrm>
            <a:off x="3200400" y="4995720"/>
            <a:ext cx="250920" cy="277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 multiplicities (squared, to the fourth, etc.) intersect but do not cross at z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d multiplicities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etc.) cross at zer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multiplicity must add up to the deg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SMARTPenAnnotation314"/>
          <p:cNvSpPr/>
          <p:nvPr/>
        </p:nvSpPr>
        <p:spPr>
          <a:xfrm>
            <a:off x="5954760" y="2994120"/>
            <a:ext cx="2582640" cy="68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SMARTPenAnnotation315"/>
          <p:cNvSpPr/>
          <p:nvPr/>
        </p:nvSpPr>
        <p:spPr>
          <a:xfrm>
            <a:off x="6904080" y="2651040"/>
            <a:ext cx="68400" cy="719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SMARTPenAnnotation316"/>
          <p:cNvSpPr/>
          <p:nvPr/>
        </p:nvSpPr>
        <p:spPr>
          <a:xfrm>
            <a:off x="6675480" y="2549520"/>
            <a:ext cx="1576440" cy="525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SMARTPenAnnotation317"/>
          <p:cNvSpPr/>
          <p:nvPr/>
        </p:nvSpPr>
        <p:spPr>
          <a:xfrm>
            <a:off x="1371600" y="5780160"/>
            <a:ext cx="11160" cy="71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SMARTPenAnnotation318"/>
          <p:cNvSpPr/>
          <p:nvPr/>
        </p:nvSpPr>
        <p:spPr>
          <a:xfrm>
            <a:off x="6068880" y="4286160"/>
            <a:ext cx="2525760" cy="68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SMARTPenAnnotation319"/>
          <p:cNvSpPr/>
          <p:nvPr/>
        </p:nvSpPr>
        <p:spPr>
          <a:xfrm>
            <a:off x="7178760" y="3782880"/>
            <a:ext cx="171360" cy="1246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SMARTPenAnnotation320"/>
          <p:cNvSpPr/>
          <p:nvPr/>
        </p:nvSpPr>
        <p:spPr>
          <a:xfrm>
            <a:off x="6526080" y="3908520"/>
            <a:ext cx="1611360" cy="984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SMARTPenAnnotation214"/>
          <p:cNvSpPr/>
          <p:nvPr/>
        </p:nvSpPr>
        <p:spPr>
          <a:xfrm>
            <a:off x="434880" y="2125800"/>
            <a:ext cx="2800440" cy="160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SMARTPenAnnotation215"/>
          <p:cNvSpPr/>
          <p:nvPr/>
        </p:nvSpPr>
        <p:spPr>
          <a:xfrm>
            <a:off x="1863720" y="598320"/>
            <a:ext cx="101520" cy="28022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SMARTPenAnnotation216"/>
          <p:cNvSpPr/>
          <p:nvPr/>
        </p:nvSpPr>
        <p:spPr>
          <a:xfrm>
            <a:off x="434880" y="965160"/>
            <a:ext cx="2354400" cy="24526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SMARTPenAnnotation217"/>
          <p:cNvSpPr/>
          <p:nvPr/>
        </p:nvSpPr>
        <p:spPr>
          <a:xfrm>
            <a:off x="2446200" y="846000"/>
            <a:ext cx="514440" cy="536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SMARTPenAnnotation218"/>
          <p:cNvSpPr/>
          <p:nvPr/>
        </p:nvSpPr>
        <p:spPr>
          <a:xfrm>
            <a:off x="458640" y="3063960"/>
            <a:ext cx="420840" cy="411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SMARTPenAnnotation219"/>
          <p:cNvSpPr/>
          <p:nvPr/>
        </p:nvSpPr>
        <p:spPr>
          <a:xfrm>
            <a:off x="2320920" y="2422440"/>
            <a:ext cx="44280" cy="538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SMARTPenAnnotation220"/>
          <p:cNvSpPr/>
          <p:nvPr/>
        </p:nvSpPr>
        <p:spPr>
          <a:xfrm>
            <a:off x="2503440" y="2560680"/>
            <a:ext cx="255600" cy="2617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SMARTPenAnnotation221"/>
          <p:cNvSpPr/>
          <p:nvPr/>
        </p:nvSpPr>
        <p:spPr>
          <a:xfrm>
            <a:off x="2857680" y="2400480"/>
            <a:ext cx="55440" cy="514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MARTPenAnnotation222"/>
          <p:cNvSpPr/>
          <p:nvPr/>
        </p:nvSpPr>
        <p:spPr>
          <a:xfrm>
            <a:off x="2765520" y="2617920"/>
            <a:ext cx="377640" cy="111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SMARTPenAnnotation223"/>
          <p:cNvSpPr/>
          <p:nvPr/>
        </p:nvSpPr>
        <p:spPr>
          <a:xfrm>
            <a:off x="324000" y="1292400"/>
            <a:ext cx="166680" cy="6508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SMARTPenAnnotation224"/>
          <p:cNvSpPr/>
          <p:nvPr/>
        </p:nvSpPr>
        <p:spPr>
          <a:xfrm>
            <a:off x="160200" y="1692360"/>
            <a:ext cx="297000" cy="147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SMARTPenAnnotation225"/>
          <p:cNvSpPr/>
          <p:nvPr/>
        </p:nvSpPr>
        <p:spPr>
          <a:xfrm>
            <a:off x="571680" y="1279440"/>
            <a:ext cx="102960" cy="5605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SMARTPenAnnotation226"/>
          <p:cNvSpPr/>
          <p:nvPr/>
        </p:nvSpPr>
        <p:spPr>
          <a:xfrm>
            <a:off x="696960" y="1542960"/>
            <a:ext cx="263520" cy="1717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SMARTPenAnnotation227"/>
          <p:cNvSpPr/>
          <p:nvPr/>
        </p:nvSpPr>
        <p:spPr>
          <a:xfrm>
            <a:off x="731880" y="1554120"/>
            <a:ext cx="131760" cy="3016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MARTPenAnnotation228"/>
          <p:cNvSpPr/>
          <p:nvPr/>
        </p:nvSpPr>
        <p:spPr>
          <a:xfrm>
            <a:off x="892080" y="1336680"/>
            <a:ext cx="158760" cy="4777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SMARTPenAnnotation229"/>
          <p:cNvSpPr/>
          <p:nvPr/>
        </p:nvSpPr>
        <p:spPr>
          <a:xfrm>
            <a:off x="1143000" y="1428840"/>
            <a:ext cx="125280" cy="572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SMARTPenAnnotation230"/>
          <p:cNvSpPr/>
          <p:nvPr/>
        </p:nvSpPr>
        <p:spPr>
          <a:xfrm>
            <a:off x="1177920" y="1531800"/>
            <a:ext cx="136440" cy="684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SMARTPenAnnotation231"/>
          <p:cNvSpPr/>
          <p:nvPr/>
        </p:nvSpPr>
        <p:spPr>
          <a:xfrm>
            <a:off x="1325520" y="1292400"/>
            <a:ext cx="171360" cy="3189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SMARTPenAnnotation232"/>
          <p:cNvSpPr/>
          <p:nvPr/>
        </p:nvSpPr>
        <p:spPr>
          <a:xfrm>
            <a:off x="1314360" y="1336680"/>
            <a:ext cx="136440" cy="331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SMARTPenAnnotation233"/>
          <p:cNvSpPr/>
          <p:nvPr/>
        </p:nvSpPr>
        <p:spPr>
          <a:xfrm>
            <a:off x="1440000" y="1393920"/>
            <a:ext cx="239400" cy="568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SMARTPenAnnotation234"/>
          <p:cNvSpPr/>
          <p:nvPr/>
        </p:nvSpPr>
        <p:spPr>
          <a:xfrm>
            <a:off x="1522440" y="1303200"/>
            <a:ext cx="61920" cy="3081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SMARTPenAnnotation235"/>
          <p:cNvSpPr/>
          <p:nvPr/>
        </p:nvSpPr>
        <p:spPr>
          <a:xfrm>
            <a:off x="1692360" y="1212840"/>
            <a:ext cx="136440" cy="3826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SMARTPenAnnotation236"/>
          <p:cNvSpPr/>
          <p:nvPr/>
        </p:nvSpPr>
        <p:spPr>
          <a:xfrm>
            <a:off x="1268280" y="1200240"/>
            <a:ext cx="160560" cy="6746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SMARTPenAnnotation237"/>
          <p:cNvSpPr/>
          <p:nvPr/>
        </p:nvSpPr>
        <p:spPr>
          <a:xfrm>
            <a:off x="1760400" y="1108080"/>
            <a:ext cx="136800" cy="6127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SMARTPenAnnotation238"/>
          <p:cNvSpPr/>
          <p:nvPr/>
        </p:nvSpPr>
        <p:spPr>
          <a:xfrm>
            <a:off x="2035080" y="1022400"/>
            <a:ext cx="360" cy="1666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SMARTPenAnnotation239"/>
          <p:cNvSpPr/>
          <p:nvPr/>
        </p:nvSpPr>
        <p:spPr>
          <a:xfrm>
            <a:off x="4894200" y="758880"/>
            <a:ext cx="123840" cy="2762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SMARTPenAnnotation240"/>
          <p:cNvSpPr/>
          <p:nvPr/>
        </p:nvSpPr>
        <p:spPr>
          <a:xfrm>
            <a:off x="3600360" y="2114640"/>
            <a:ext cx="2686320" cy="114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SMARTPenAnnotation241"/>
          <p:cNvSpPr/>
          <p:nvPr/>
        </p:nvSpPr>
        <p:spPr>
          <a:xfrm>
            <a:off x="4183200" y="853920"/>
            <a:ext cx="1577880" cy="2241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SMARTPenAnnotation242"/>
          <p:cNvSpPr/>
          <p:nvPr/>
        </p:nvSpPr>
        <p:spPr>
          <a:xfrm>
            <a:off x="3772080" y="2446200"/>
            <a:ext cx="182520" cy="334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SMARTPenAnnotation243"/>
          <p:cNvSpPr/>
          <p:nvPr/>
        </p:nvSpPr>
        <p:spPr>
          <a:xfrm>
            <a:off x="4022640" y="2308320"/>
            <a:ext cx="173160" cy="249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SMARTPenAnnotation244"/>
          <p:cNvSpPr/>
          <p:nvPr/>
        </p:nvSpPr>
        <p:spPr>
          <a:xfrm>
            <a:off x="5794200" y="2274840"/>
            <a:ext cx="204840" cy="308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SMARTPenAnnotation245"/>
          <p:cNvSpPr/>
          <p:nvPr/>
        </p:nvSpPr>
        <p:spPr>
          <a:xfrm>
            <a:off x="5475240" y="2963880"/>
            <a:ext cx="222120" cy="304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SMARTPenAnnotation246"/>
          <p:cNvSpPr/>
          <p:nvPr/>
        </p:nvSpPr>
        <p:spPr>
          <a:xfrm>
            <a:off x="5600880" y="3268800"/>
            <a:ext cx="2880" cy="360"/>
          </a:xfrm>
          <a:prstGeom prst="pie">
            <a:avLst/>
          </a:prstGeom>
          <a:solidFill>
            <a:srgbClr val="ffcc00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SMARTPenAnnotation247"/>
          <p:cNvSpPr/>
          <p:nvPr/>
        </p:nvSpPr>
        <p:spPr>
          <a:xfrm>
            <a:off x="5737320" y="3097080"/>
            <a:ext cx="206280" cy="166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SMARTPenAnnotation248"/>
          <p:cNvSpPr/>
          <p:nvPr/>
        </p:nvSpPr>
        <p:spPr>
          <a:xfrm>
            <a:off x="5967360" y="2852640"/>
            <a:ext cx="284040" cy="438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SMARTPenAnnotation249"/>
          <p:cNvSpPr/>
          <p:nvPr/>
        </p:nvSpPr>
        <p:spPr>
          <a:xfrm>
            <a:off x="5451480" y="3279600"/>
            <a:ext cx="217440" cy="334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SMARTPenAnnotation250"/>
          <p:cNvSpPr/>
          <p:nvPr/>
        </p:nvSpPr>
        <p:spPr>
          <a:xfrm>
            <a:off x="6093000" y="1028880"/>
            <a:ext cx="215640" cy="571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SMARTPenAnnotation251"/>
          <p:cNvSpPr/>
          <p:nvPr/>
        </p:nvSpPr>
        <p:spPr>
          <a:xfrm>
            <a:off x="5965920" y="1360440"/>
            <a:ext cx="298440" cy="90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SMARTPenAnnotation252"/>
          <p:cNvSpPr/>
          <p:nvPr/>
        </p:nvSpPr>
        <p:spPr>
          <a:xfrm>
            <a:off x="6310440" y="1074600"/>
            <a:ext cx="136440" cy="490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SMARTPenAnnotation253"/>
          <p:cNvSpPr/>
          <p:nvPr/>
        </p:nvSpPr>
        <p:spPr>
          <a:xfrm>
            <a:off x="6435720" y="1303200"/>
            <a:ext cx="239760" cy="227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SMARTPenAnnotation254"/>
          <p:cNvSpPr/>
          <p:nvPr/>
        </p:nvSpPr>
        <p:spPr>
          <a:xfrm>
            <a:off x="6492960" y="1336680"/>
            <a:ext cx="79200" cy="217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SMARTPenAnnotation255"/>
          <p:cNvSpPr/>
          <p:nvPr/>
        </p:nvSpPr>
        <p:spPr>
          <a:xfrm>
            <a:off x="6550200" y="1108080"/>
            <a:ext cx="193680" cy="496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SMARTPenAnnotation256"/>
          <p:cNvSpPr/>
          <p:nvPr/>
        </p:nvSpPr>
        <p:spPr>
          <a:xfrm>
            <a:off x="6835680" y="1257480"/>
            <a:ext cx="204840" cy="34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SMARTPenAnnotation257"/>
          <p:cNvSpPr/>
          <p:nvPr/>
        </p:nvSpPr>
        <p:spPr>
          <a:xfrm>
            <a:off x="6858000" y="1349280"/>
            <a:ext cx="228600" cy="68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SMARTPenAnnotation258"/>
          <p:cNvSpPr/>
          <p:nvPr/>
        </p:nvSpPr>
        <p:spPr>
          <a:xfrm>
            <a:off x="7178760" y="960480"/>
            <a:ext cx="204840" cy="708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SMARTPenAnnotation259"/>
          <p:cNvSpPr/>
          <p:nvPr/>
        </p:nvSpPr>
        <p:spPr>
          <a:xfrm>
            <a:off x="7350120" y="1211400"/>
            <a:ext cx="272880" cy="3315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SMARTPenAnnotation260"/>
          <p:cNvSpPr/>
          <p:nvPr/>
        </p:nvSpPr>
        <p:spPr>
          <a:xfrm>
            <a:off x="7326360" y="1222200"/>
            <a:ext cx="171360" cy="298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SMARTPenAnnotation261"/>
          <p:cNvSpPr/>
          <p:nvPr/>
        </p:nvSpPr>
        <p:spPr>
          <a:xfrm>
            <a:off x="7566120" y="1303200"/>
            <a:ext cx="252360" cy="46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SMARTPenAnnotation262"/>
          <p:cNvSpPr/>
          <p:nvPr/>
        </p:nvSpPr>
        <p:spPr>
          <a:xfrm>
            <a:off x="7635960" y="1257480"/>
            <a:ext cx="114120" cy="237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SMARTPenAnnotation263"/>
          <p:cNvSpPr/>
          <p:nvPr/>
        </p:nvSpPr>
        <p:spPr>
          <a:xfrm>
            <a:off x="7856640" y="1096920"/>
            <a:ext cx="223560" cy="395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SMARTPenAnnotation264"/>
          <p:cNvSpPr/>
          <p:nvPr/>
        </p:nvSpPr>
        <p:spPr>
          <a:xfrm>
            <a:off x="8001000" y="982800"/>
            <a:ext cx="239760" cy="606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SMARTPenAnnotation265"/>
          <p:cNvSpPr/>
          <p:nvPr/>
        </p:nvSpPr>
        <p:spPr>
          <a:xfrm>
            <a:off x="8312040" y="949320"/>
            <a:ext cx="111240" cy="5936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SMARTPenAnnotation266"/>
          <p:cNvSpPr/>
          <p:nvPr/>
        </p:nvSpPr>
        <p:spPr>
          <a:xfrm>
            <a:off x="8366040" y="1147680"/>
            <a:ext cx="241560" cy="2700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SMARTPenAnnotation267"/>
          <p:cNvSpPr/>
          <p:nvPr/>
        </p:nvSpPr>
        <p:spPr>
          <a:xfrm>
            <a:off x="8354880" y="1143000"/>
            <a:ext cx="149400" cy="263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SMARTPenAnnotation268"/>
          <p:cNvSpPr/>
          <p:nvPr/>
        </p:nvSpPr>
        <p:spPr>
          <a:xfrm>
            <a:off x="8583480" y="1268280"/>
            <a:ext cx="103320" cy="11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SMARTPenAnnotation269"/>
          <p:cNvSpPr/>
          <p:nvPr/>
        </p:nvSpPr>
        <p:spPr>
          <a:xfrm>
            <a:off x="8697960" y="1074600"/>
            <a:ext cx="222120" cy="360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MARTPenAnnotation270"/>
          <p:cNvSpPr/>
          <p:nvPr/>
        </p:nvSpPr>
        <p:spPr>
          <a:xfrm>
            <a:off x="8847000" y="915840"/>
            <a:ext cx="193680" cy="6890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SMARTPenAnnotation271"/>
          <p:cNvSpPr/>
          <p:nvPr/>
        </p:nvSpPr>
        <p:spPr>
          <a:xfrm>
            <a:off x="8137440" y="960480"/>
            <a:ext cx="57240" cy="114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SMARTPenAnnotation272"/>
          <p:cNvSpPr/>
          <p:nvPr/>
        </p:nvSpPr>
        <p:spPr>
          <a:xfrm>
            <a:off x="8983800" y="936720"/>
            <a:ext cx="10800" cy="1490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SMARTPenAnnotation273"/>
          <p:cNvSpPr/>
          <p:nvPr/>
        </p:nvSpPr>
        <p:spPr>
          <a:xfrm>
            <a:off x="7040520" y="1920960"/>
            <a:ext cx="23760" cy="387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SMARTPenAnnotation274"/>
          <p:cNvSpPr/>
          <p:nvPr/>
        </p:nvSpPr>
        <p:spPr>
          <a:xfrm>
            <a:off x="7189920" y="2068560"/>
            <a:ext cx="239760" cy="23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SMARTPenAnnotation275"/>
          <p:cNvSpPr/>
          <p:nvPr/>
        </p:nvSpPr>
        <p:spPr>
          <a:xfrm>
            <a:off x="7280280" y="1943280"/>
            <a:ext cx="69840" cy="342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SMARTPenAnnotation276"/>
          <p:cNvSpPr/>
          <p:nvPr/>
        </p:nvSpPr>
        <p:spPr>
          <a:xfrm>
            <a:off x="7589880" y="1978200"/>
            <a:ext cx="46080" cy="353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SMARTPenAnnotation277"/>
          <p:cNvSpPr/>
          <p:nvPr/>
        </p:nvSpPr>
        <p:spPr>
          <a:xfrm>
            <a:off x="7840800" y="2114640"/>
            <a:ext cx="206280" cy="11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SMARTPenAnnotation278"/>
          <p:cNvSpPr/>
          <p:nvPr/>
        </p:nvSpPr>
        <p:spPr>
          <a:xfrm>
            <a:off x="7908840" y="2182680"/>
            <a:ext cx="195480" cy="46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SMARTPenAnnotation279"/>
          <p:cNvSpPr/>
          <p:nvPr/>
        </p:nvSpPr>
        <p:spPr>
          <a:xfrm>
            <a:off x="8194680" y="2017800"/>
            <a:ext cx="274680" cy="347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SMARTPenAnnotation280"/>
          <p:cNvSpPr/>
          <p:nvPr/>
        </p:nvSpPr>
        <p:spPr>
          <a:xfrm>
            <a:off x="6229440" y="2509920"/>
            <a:ext cx="1925640" cy="6555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SMARTPenAnnotation281"/>
          <p:cNvSpPr/>
          <p:nvPr/>
        </p:nvSpPr>
        <p:spPr>
          <a:xfrm>
            <a:off x="7932600" y="2457360"/>
            <a:ext cx="271440" cy="220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SMARTPenAnnotation282"/>
          <p:cNvSpPr/>
          <p:nvPr/>
        </p:nvSpPr>
        <p:spPr>
          <a:xfrm>
            <a:off x="6153120" y="3008160"/>
            <a:ext cx="219240" cy="317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SMARTPenAnnotation283"/>
          <p:cNvSpPr/>
          <p:nvPr/>
        </p:nvSpPr>
        <p:spPr>
          <a:xfrm>
            <a:off x="1679400" y="3760920"/>
            <a:ext cx="389160" cy="2119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SMARTPenAnnotation284"/>
          <p:cNvSpPr/>
          <p:nvPr/>
        </p:nvSpPr>
        <p:spPr>
          <a:xfrm>
            <a:off x="378000" y="4629240"/>
            <a:ext cx="2982600" cy="2062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SMARTPenAnnotation285"/>
          <p:cNvSpPr/>
          <p:nvPr/>
        </p:nvSpPr>
        <p:spPr>
          <a:xfrm>
            <a:off x="1006560" y="5726160"/>
            <a:ext cx="11160" cy="237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SMARTPenAnnotation286"/>
          <p:cNvSpPr/>
          <p:nvPr/>
        </p:nvSpPr>
        <p:spPr>
          <a:xfrm>
            <a:off x="1039680" y="3543480"/>
            <a:ext cx="2213280" cy="21603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SMARTPenAnnotation287"/>
          <p:cNvSpPr/>
          <p:nvPr/>
        </p:nvSpPr>
        <p:spPr>
          <a:xfrm>
            <a:off x="514440" y="4549680"/>
            <a:ext cx="365040" cy="111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SMARTPenAnnotation288"/>
          <p:cNvSpPr/>
          <p:nvPr/>
        </p:nvSpPr>
        <p:spPr>
          <a:xfrm>
            <a:off x="903240" y="4383000"/>
            <a:ext cx="239760" cy="2574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SMARTPenAnnotation289"/>
          <p:cNvSpPr/>
          <p:nvPr/>
        </p:nvSpPr>
        <p:spPr>
          <a:xfrm>
            <a:off x="2405160" y="4743360"/>
            <a:ext cx="452520" cy="2844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SMARTPenAnnotation290"/>
          <p:cNvSpPr/>
          <p:nvPr/>
        </p:nvSpPr>
        <p:spPr>
          <a:xfrm>
            <a:off x="2492280" y="5384880"/>
            <a:ext cx="273240" cy="5922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SMARTPenAnnotation291"/>
          <p:cNvSpPr/>
          <p:nvPr/>
        </p:nvSpPr>
        <p:spPr>
          <a:xfrm>
            <a:off x="2857680" y="5565600"/>
            <a:ext cx="228600" cy="3034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SMARTPenAnnotation292"/>
          <p:cNvSpPr/>
          <p:nvPr/>
        </p:nvSpPr>
        <p:spPr>
          <a:xfrm>
            <a:off x="3051000" y="5235480"/>
            <a:ext cx="435240" cy="6508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SMARTPenAnnotation293"/>
          <p:cNvSpPr/>
          <p:nvPr/>
        </p:nvSpPr>
        <p:spPr>
          <a:xfrm>
            <a:off x="4457880" y="4057560"/>
            <a:ext cx="274320" cy="9144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SMARTPenAnnotation294"/>
          <p:cNvSpPr/>
          <p:nvPr/>
        </p:nvSpPr>
        <p:spPr>
          <a:xfrm>
            <a:off x="4708440" y="4400640"/>
            <a:ext cx="355680" cy="3538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SMARTPenAnnotation295"/>
          <p:cNvSpPr/>
          <p:nvPr/>
        </p:nvSpPr>
        <p:spPr>
          <a:xfrm>
            <a:off x="4765680" y="4365720"/>
            <a:ext cx="206280" cy="3888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SMARTPenAnnotation296"/>
          <p:cNvSpPr/>
          <p:nvPr/>
        </p:nvSpPr>
        <p:spPr>
          <a:xfrm>
            <a:off x="5154480" y="4514760"/>
            <a:ext cx="274680" cy="111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SMARTPenAnnotation297"/>
          <p:cNvSpPr/>
          <p:nvPr/>
        </p:nvSpPr>
        <p:spPr>
          <a:xfrm>
            <a:off x="5303880" y="4389480"/>
            <a:ext cx="79200" cy="3650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SMARTPenAnnotation298"/>
          <p:cNvSpPr/>
          <p:nvPr/>
        </p:nvSpPr>
        <p:spPr>
          <a:xfrm>
            <a:off x="5464080" y="4229280"/>
            <a:ext cx="468360" cy="4348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SMARTPenAnnotation299"/>
          <p:cNvSpPr/>
          <p:nvPr/>
        </p:nvSpPr>
        <p:spPr>
          <a:xfrm>
            <a:off x="5726160" y="4068720"/>
            <a:ext cx="352440" cy="7542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SMARTPenAnnotation300"/>
          <p:cNvSpPr/>
          <p:nvPr/>
        </p:nvSpPr>
        <p:spPr>
          <a:xfrm>
            <a:off x="6437160" y="3954600"/>
            <a:ext cx="271440" cy="8920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SMARTPenAnnotation301"/>
          <p:cNvSpPr/>
          <p:nvPr/>
        </p:nvSpPr>
        <p:spPr>
          <a:xfrm>
            <a:off x="6594480" y="4286160"/>
            <a:ext cx="355680" cy="2970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SMARTPenAnnotation302"/>
          <p:cNvSpPr/>
          <p:nvPr/>
        </p:nvSpPr>
        <p:spPr>
          <a:xfrm>
            <a:off x="6664320" y="4275000"/>
            <a:ext cx="136440" cy="3286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SMARTPenAnnotation303"/>
          <p:cNvSpPr/>
          <p:nvPr/>
        </p:nvSpPr>
        <p:spPr>
          <a:xfrm>
            <a:off x="6950160" y="4332240"/>
            <a:ext cx="285840" cy="684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SMARTPenAnnotation304"/>
          <p:cNvSpPr/>
          <p:nvPr/>
        </p:nvSpPr>
        <p:spPr>
          <a:xfrm>
            <a:off x="7246800" y="4172040"/>
            <a:ext cx="365400" cy="4460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SMARTPenAnnotation305"/>
          <p:cNvSpPr/>
          <p:nvPr/>
        </p:nvSpPr>
        <p:spPr>
          <a:xfrm>
            <a:off x="7497720" y="3965400"/>
            <a:ext cx="318960" cy="6415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SMARTPenAnnotation306"/>
          <p:cNvSpPr/>
          <p:nvPr/>
        </p:nvSpPr>
        <p:spPr>
          <a:xfrm>
            <a:off x="6114960" y="4275000"/>
            <a:ext cx="206640" cy="22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SMARTPenAnnotation307"/>
          <p:cNvSpPr/>
          <p:nvPr/>
        </p:nvSpPr>
        <p:spPr>
          <a:xfrm>
            <a:off x="7829640" y="4172040"/>
            <a:ext cx="250560" cy="34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SMARTPenAnnotation308"/>
          <p:cNvSpPr/>
          <p:nvPr/>
        </p:nvSpPr>
        <p:spPr>
          <a:xfrm>
            <a:off x="6138720" y="3967200"/>
            <a:ext cx="68400" cy="2397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SMARTPenAnnotation309"/>
          <p:cNvSpPr/>
          <p:nvPr/>
        </p:nvSpPr>
        <p:spPr>
          <a:xfrm>
            <a:off x="7864560" y="3932280"/>
            <a:ext cx="296640" cy="1825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248"/>
          <p:cNvSpPr/>
          <p:nvPr/>
        </p:nvSpPr>
        <p:spPr>
          <a:xfrm>
            <a:off x="8317080" y="5421240"/>
            <a:ext cx="115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249"/>
          <p:cNvSpPr/>
          <p:nvPr/>
        </p:nvSpPr>
        <p:spPr>
          <a:xfrm>
            <a:off x="1762920" y="3657600"/>
            <a:ext cx="3266640" cy="368280"/>
          </a:xfrm>
          <a:prstGeom prst="rect">
            <a:avLst/>
          </a:prstGeom>
          <a:noFill/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Zero of Odd Multipli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8" name="Picture 250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4686480" cy="1701720"/>
          </a:xfrm>
          <a:prstGeom prst="rect">
            <a:avLst/>
          </a:prstGeom>
          <a:ln w="50760">
            <a:solidFill>
              <a:srgbClr val="993300"/>
            </a:solidFill>
            <a:miter/>
          </a:ln>
        </p:spPr>
      </p:pic>
      <p:pic>
        <p:nvPicPr>
          <p:cNvPr id="899" name="Picture 251" descr=""/>
          <p:cNvPicPr/>
          <p:nvPr/>
        </p:nvPicPr>
        <p:blipFill>
          <a:blip r:embed="rId2"/>
          <a:stretch/>
        </p:blipFill>
        <p:spPr>
          <a:xfrm>
            <a:off x="6095880" y="1371600"/>
            <a:ext cx="2210040" cy="1684440"/>
          </a:xfrm>
          <a:prstGeom prst="rect">
            <a:avLst/>
          </a:prstGeom>
          <a:ln w="50760">
            <a:solidFill>
              <a:srgbClr val="993300"/>
            </a:solidFill>
            <a:miter/>
          </a:ln>
        </p:spPr>
      </p:pic>
      <p:sp>
        <p:nvSpPr>
          <p:cNvPr id="900" name="Line 252"/>
          <p:cNvSpPr/>
          <p:nvPr/>
        </p:nvSpPr>
        <p:spPr>
          <a:xfrm>
            <a:off x="5334120" y="213372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254"/>
          <p:cNvSpPr/>
          <p:nvPr/>
        </p:nvSpPr>
        <p:spPr>
          <a:xfrm>
            <a:off x="1710000" y="533520"/>
            <a:ext cx="3355200" cy="368280"/>
          </a:xfrm>
          <a:prstGeom prst="rect">
            <a:avLst/>
          </a:prstGeom>
          <a:noFill/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Zero of Even Multipli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2" name="Picture 255" descr=""/>
          <p:cNvPicPr/>
          <p:nvPr/>
        </p:nvPicPr>
        <p:blipFill>
          <a:blip r:embed="rId3"/>
          <a:stretch/>
        </p:blipFill>
        <p:spPr>
          <a:xfrm>
            <a:off x="533520" y="4495680"/>
            <a:ext cx="5105160" cy="1656000"/>
          </a:xfrm>
          <a:prstGeom prst="rect">
            <a:avLst/>
          </a:prstGeom>
          <a:ln w="50760">
            <a:solidFill>
              <a:srgbClr val="993300"/>
            </a:solidFill>
            <a:miter/>
          </a:ln>
        </p:spPr>
      </p:pic>
      <p:pic>
        <p:nvPicPr>
          <p:cNvPr id="903" name="Picture 256" descr=""/>
          <p:cNvPicPr/>
          <p:nvPr/>
        </p:nvPicPr>
        <p:blipFill>
          <a:blip r:embed="rId4"/>
          <a:stretch/>
        </p:blipFill>
        <p:spPr>
          <a:xfrm>
            <a:off x="6172200" y="4495680"/>
            <a:ext cx="2209680" cy="1692360"/>
          </a:xfrm>
          <a:prstGeom prst="rect">
            <a:avLst/>
          </a:prstGeom>
          <a:ln w="50760">
            <a:solidFill>
              <a:srgbClr val="993300"/>
            </a:solidFill>
            <a:miter/>
          </a:ln>
        </p:spPr>
      </p:pic>
      <p:sp>
        <p:nvSpPr>
          <p:cNvPr id="904" name="Line 257"/>
          <p:cNvSpPr/>
          <p:nvPr/>
        </p:nvSpPr>
        <p:spPr>
          <a:xfrm>
            <a:off x="5638680" y="525780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SMARTPenAnnotation310"/>
          <p:cNvSpPr/>
          <p:nvPr/>
        </p:nvSpPr>
        <p:spPr>
          <a:xfrm>
            <a:off x="8447040" y="1542960"/>
            <a:ext cx="389160" cy="787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SMARTPenAnnotation311"/>
          <p:cNvSpPr/>
          <p:nvPr/>
        </p:nvSpPr>
        <p:spPr>
          <a:xfrm>
            <a:off x="8354880" y="2382840"/>
            <a:ext cx="549360" cy="176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SMARTPenAnnotation312"/>
          <p:cNvSpPr/>
          <p:nvPr/>
        </p:nvSpPr>
        <p:spPr>
          <a:xfrm>
            <a:off x="7647120" y="4916520"/>
            <a:ext cx="1189080" cy="55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SMARTPenAnnotation313"/>
          <p:cNvSpPr/>
          <p:nvPr/>
        </p:nvSpPr>
        <p:spPr>
          <a:xfrm>
            <a:off x="7726320" y="4518000"/>
            <a:ext cx="846360" cy="10256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 zeros on this graph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0" name="Picture 7" descr=""/>
          <p:cNvPicPr/>
          <p:nvPr/>
        </p:nvPicPr>
        <p:blipFill>
          <a:blip r:embed="rId1"/>
          <a:stretch/>
        </p:blipFill>
        <p:spPr>
          <a:xfrm>
            <a:off x="2519280" y="2496960"/>
            <a:ext cx="4105440" cy="2733840"/>
          </a:xfrm>
          <a:prstGeom prst="rect">
            <a:avLst/>
          </a:prstGeom>
          <a:ln w="0">
            <a:noFill/>
          </a:ln>
        </p:spPr>
      </p:pic>
      <p:sp>
        <p:nvSpPr>
          <p:cNvPr id="911" name="SMARTPenAnnotation166"/>
          <p:cNvSpPr/>
          <p:nvPr/>
        </p:nvSpPr>
        <p:spPr>
          <a:xfrm>
            <a:off x="2903400" y="5303880"/>
            <a:ext cx="422280" cy="33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SMARTPenAnnotation167"/>
          <p:cNvSpPr/>
          <p:nvPr/>
        </p:nvSpPr>
        <p:spPr>
          <a:xfrm>
            <a:off x="3314880" y="5178600"/>
            <a:ext cx="260280" cy="382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SMARTPenAnnotation168"/>
          <p:cNvSpPr/>
          <p:nvPr/>
        </p:nvSpPr>
        <p:spPr>
          <a:xfrm>
            <a:off x="3622680" y="5554800"/>
            <a:ext cx="34920" cy="195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SMARTPenAnnotation169"/>
          <p:cNvSpPr/>
          <p:nvPr/>
        </p:nvSpPr>
        <p:spPr>
          <a:xfrm>
            <a:off x="3740040" y="5246640"/>
            <a:ext cx="247680" cy="409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SMARTPenAnnotation170"/>
          <p:cNvSpPr/>
          <p:nvPr/>
        </p:nvSpPr>
        <p:spPr>
          <a:xfrm>
            <a:off x="2509920" y="4892760"/>
            <a:ext cx="382680" cy="879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SMARTPenAnnotation171"/>
          <p:cNvSpPr/>
          <p:nvPr/>
        </p:nvSpPr>
        <p:spPr>
          <a:xfrm>
            <a:off x="3978360" y="5040360"/>
            <a:ext cx="420480" cy="9255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SMARTPenAnnotation172"/>
          <p:cNvSpPr/>
          <p:nvPr/>
        </p:nvSpPr>
        <p:spPr>
          <a:xfrm>
            <a:off x="5213520" y="5086440"/>
            <a:ext cx="376200" cy="617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SMARTPenAnnotation173"/>
          <p:cNvSpPr/>
          <p:nvPr/>
        </p:nvSpPr>
        <p:spPr>
          <a:xfrm>
            <a:off x="5521320" y="5280120"/>
            <a:ext cx="57240" cy="388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SMARTPenAnnotation174"/>
          <p:cNvSpPr/>
          <p:nvPr/>
        </p:nvSpPr>
        <p:spPr>
          <a:xfrm>
            <a:off x="5715000" y="5589720"/>
            <a:ext cx="34920" cy="217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SMARTPenAnnotation175"/>
          <p:cNvSpPr/>
          <p:nvPr/>
        </p:nvSpPr>
        <p:spPr>
          <a:xfrm>
            <a:off x="5843520" y="5349960"/>
            <a:ext cx="282600" cy="360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SMARTPenAnnotation176"/>
          <p:cNvSpPr/>
          <p:nvPr/>
        </p:nvSpPr>
        <p:spPr>
          <a:xfrm>
            <a:off x="6068880" y="5200560"/>
            <a:ext cx="297000" cy="743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SMARTPenAnnotation177"/>
          <p:cNvSpPr/>
          <p:nvPr/>
        </p:nvSpPr>
        <p:spPr>
          <a:xfrm>
            <a:off x="3235320" y="6013440"/>
            <a:ext cx="193680" cy="247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SMARTPenAnnotation178"/>
          <p:cNvSpPr/>
          <p:nvPr/>
        </p:nvSpPr>
        <p:spPr>
          <a:xfrm>
            <a:off x="3349800" y="6035760"/>
            <a:ext cx="2880" cy="360"/>
          </a:xfrm>
          <a:prstGeom prst="pie">
            <a:avLst/>
          </a:prstGeom>
          <a:solidFill>
            <a:srgbClr val="ffcc00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SMARTPenAnnotation179"/>
          <p:cNvSpPr/>
          <p:nvPr/>
        </p:nvSpPr>
        <p:spPr>
          <a:xfrm>
            <a:off x="3498840" y="5921280"/>
            <a:ext cx="308160" cy="501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SMARTPenAnnotation180"/>
          <p:cNvSpPr/>
          <p:nvPr/>
        </p:nvSpPr>
        <p:spPr>
          <a:xfrm>
            <a:off x="3852720" y="6024600"/>
            <a:ext cx="387360" cy="523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SMARTPenAnnotation181"/>
          <p:cNvSpPr/>
          <p:nvPr/>
        </p:nvSpPr>
        <p:spPr>
          <a:xfrm>
            <a:off x="5292720" y="5991120"/>
            <a:ext cx="308160" cy="352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SMARTPenAnnotation182"/>
          <p:cNvSpPr/>
          <p:nvPr/>
        </p:nvSpPr>
        <p:spPr>
          <a:xfrm>
            <a:off x="5589720" y="5921280"/>
            <a:ext cx="250560" cy="343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SMARTPenAnnotation183"/>
          <p:cNvSpPr/>
          <p:nvPr/>
        </p:nvSpPr>
        <p:spPr>
          <a:xfrm>
            <a:off x="5908680" y="5900760"/>
            <a:ext cx="217440" cy="339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SMARTPenAnnotation184"/>
          <p:cNvSpPr/>
          <p:nvPr/>
        </p:nvSpPr>
        <p:spPr>
          <a:xfrm>
            <a:off x="6183360" y="5921280"/>
            <a:ext cx="296640" cy="376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SMARTPenAnnotation185"/>
          <p:cNvSpPr/>
          <p:nvPr/>
        </p:nvSpPr>
        <p:spPr>
          <a:xfrm>
            <a:off x="6481800" y="3097080"/>
            <a:ext cx="158760" cy="663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SMARTPenAnnotation186"/>
          <p:cNvSpPr/>
          <p:nvPr/>
        </p:nvSpPr>
        <p:spPr>
          <a:xfrm>
            <a:off x="6343560" y="3451320"/>
            <a:ext cx="343080" cy="92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SMARTPenAnnotation187"/>
          <p:cNvSpPr/>
          <p:nvPr/>
        </p:nvSpPr>
        <p:spPr>
          <a:xfrm>
            <a:off x="6711840" y="3143160"/>
            <a:ext cx="192240" cy="5130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SMARTPenAnnotation188"/>
          <p:cNvSpPr/>
          <p:nvPr/>
        </p:nvSpPr>
        <p:spPr>
          <a:xfrm>
            <a:off x="6869160" y="3325680"/>
            <a:ext cx="285840" cy="252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SMARTPenAnnotation189"/>
          <p:cNvSpPr/>
          <p:nvPr/>
        </p:nvSpPr>
        <p:spPr>
          <a:xfrm>
            <a:off x="6937200" y="3303720"/>
            <a:ext cx="114480" cy="318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SMARTPenAnnotation190"/>
          <p:cNvSpPr/>
          <p:nvPr/>
        </p:nvSpPr>
        <p:spPr>
          <a:xfrm>
            <a:off x="7040520" y="3110040"/>
            <a:ext cx="209520" cy="558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SMARTPenAnnotation191"/>
          <p:cNvSpPr/>
          <p:nvPr/>
        </p:nvSpPr>
        <p:spPr>
          <a:xfrm>
            <a:off x="7292880" y="3297240"/>
            <a:ext cx="216000" cy="39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SMARTPenAnnotation192"/>
          <p:cNvSpPr/>
          <p:nvPr/>
        </p:nvSpPr>
        <p:spPr>
          <a:xfrm>
            <a:off x="7335720" y="3382920"/>
            <a:ext cx="162000" cy="46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SMARTPenAnnotation193"/>
          <p:cNvSpPr/>
          <p:nvPr/>
        </p:nvSpPr>
        <p:spPr>
          <a:xfrm>
            <a:off x="4218120" y="6207120"/>
            <a:ext cx="228600" cy="44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SMARTPenAnnotation194"/>
          <p:cNvSpPr/>
          <p:nvPr/>
        </p:nvSpPr>
        <p:spPr>
          <a:xfrm>
            <a:off x="4549680" y="6046920"/>
            <a:ext cx="33480" cy="342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SMARTPenAnnotation195"/>
          <p:cNvSpPr/>
          <p:nvPr/>
        </p:nvSpPr>
        <p:spPr>
          <a:xfrm>
            <a:off x="6572160" y="6012000"/>
            <a:ext cx="239760" cy="34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SMARTPenAnnotation196"/>
          <p:cNvSpPr/>
          <p:nvPr/>
        </p:nvSpPr>
        <p:spPr>
          <a:xfrm>
            <a:off x="6811920" y="5783400"/>
            <a:ext cx="309600" cy="423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SMARTPenAnnotation197"/>
          <p:cNvSpPr/>
          <p:nvPr/>
        </p:nvSpPr>
        <p:spPr>
          <a:xfrm>
            <a:off x="4297320" y="6149880"/>
            <a:ext cx="171360" cy="2160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SMARTPenAnnotation198"/>
          <p:cNvSpPr/>
          <p:nvPr/>
        </p:nvSpPr>
        <p:spPr>
          <a:xfrm>
            <a:off x="6561000" y="5943600"/>
            <a:ext cx="193680" cy="285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SMARTPenAnnotation199"/>
          <p:cNvSpPr/>
          <p:nvPr/>
        </p:nvSpPr>
        <p:spPr>
          <a:xfrm>
            <a:off x="7589880" y="3086280"/>
            <a:ext cx="125280" cy="457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SMARTPenAnnotation200"/>
          <p:cNvSpPr/>
          <p:nvPr/>
        </p:nvSpPr>
        <p:spPr>
          <a:xfrm>
            <a:off x="7680240" y="3235320"/>
            <a:ext cx="206640" cy="272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SMARTPenAnnotation201"/>
          <p:cNvSpPr/>
          <p:nvPr/>
        </p:nvSpPr>
        <p:spPr>
          <a:xfrm>
            <a:off x="7737480" y="3235320"/>
            <a:ext cx="69840" cy="2970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SMARTPenAnnotation202"/>
          <p:cNvSpPr/>
          <p:nvPr/>
        </p:nvSpPr>
        <p:spPr>
          <a:xfrm>
            <a:off x="7851600" y="3314880"/>
            <a:ext cx="263880" cy="34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SMARTPenAnnotation203"/>
          <p:cNvSpPr/>
          <p:nvPr/>
        </p:nvSpPr>
        <p:spPr>
          <a:xfrm>
            <a:off x="7989840" y="3189240"/>
            <a:ext cx="79560" cy="308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SMARTPenAnnotation204"/>
          <p:cNvSpPr/>
          <p:nvPr/>
        </p:nvSpPr>
        <p:spPr>
          <a:xfrm>
            <a:off x="8137440" y="3125880"/>
            <a:ext cx="216000" cy="369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SMARTPenAnnotation205"/>
          <p:cNvSpPr/>
          <p:nvPr/>
        </p:nvSpPr>
        <p:spPr>
          <a:xfrm>
            <a:off x="8207280" y="3029040"/>
            <a:ext cx="250920" cy="598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SMARTPenAnnotation206"/>
          <p:cNvSpPr/>
          <p:nvPr/>
        </p:nvSpPr>
        <p:spPr>
          <a:xfrm>
            <a:off x="8572680" y="3303720"/>
            <a:ext cx="66600" cy="68040"/>
          </a:xfrm>
          <a:prstGeom prst="pie">
            <a:avLst/>
          </a:prstGeom>
          <a:solidFill>
            <a:srgbClr val="ffcc00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SMARTPenAnnotation207"/>
          <p:cNvSpPr/>
          <p:nvPr/>
        </p:nvSpPr>
        <p:spPr>
          <a:xfrm>
            <a:off x="7670880" y="3714840"/>
            <a:ext cx="284040" cy="5936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SMARTPenAnnotation208"/>
          <p:cNvSpPr/>
          <p:nvPr/>
        </p:nvSpPr>
        <p:spPr>
          <a:xfrm>
            <a:off x="7851600" y="3875040"/>
            <a:ext cx="263880" cy="262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SMARTPenAnnotation209"/>
          <p:cNvSpPr/>
          <p:nvPr/>
        </p:nvSpPr>
        <p:spPr>
          <a:xfrm>
            <a:off x="7869240" y="3863880"/>
            <a:ext cx="177840" cy="2970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SMARTPenAnnotation210"/>
          <p:cNvSpPr/>
          <p:nvPr/>
        </p:nvSpPr>
        <p:spPr>
          <a:xfrm>
            <a:off x="8104320" y="3965400"/>
            <a:ext cx="160200" cy="12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SMARTPenAnnotation211"/>
          <p:cNvSpPr/>
          <p:nvPr/>
        </p:nvSpPr>
        <p:spPr>
          <a:xfrm>
            <a:off x="8354880" y="3794040"/>
            <a:ext cx="24120" cy="320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SMARTPenAnnotation212"/>
          <p:cNvSpPr/>
          <p:nvPr/>
        </p:nvSpPr>
        <p:spPr>
          <a:xfrm>
            <a:off x="8400960" y="3703680"/>
            <a:ext cx="203400" cy="503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SMARTPenAnnotation213"/>
          <p:cNvSpPr/>
          <p:nvPr/>
        </p:nvSpPr>
        <p:spPr>
          <a:xfrm>
            <a:off x="8607600" y="3602160"/>
            <a:ext cx="290160" cy="179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this 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akes f(x) equal zero on this grap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1" name="Picture 6" descr=""/>
          <p:cNvPicPr/>
          <p:nvPr/>
        </p:nvPicPr>
        <p:blipFill>
          <a:blip r:embed="rId1"/>
          <a:stretch/>
        </p:blipFill>
        <p:spPr>
          <a:xfrm>
            <a:off x="2819520" y="2590920"/>
            <a:ext cx="5715000" cy="3805200"/>
          </a:xfrm>
          <a:prstGeom prst="rect">
            <a:avLst/>
          </a:prstGeom>
          <a:ln w="0">
            <a:noFill/>
          </a:ln>
        </p:spPr>
      </p:pic>
      <p:sp>
        <p:nvSpPr>
          <p:cNvPr id="962" name="SMARTPenAnnotation117"/>
          <p:cNvSpPr/>
          <p:nvPr/>
        </p:nvSpPr>
        <p:spPr>
          <a:xfrm>
            <a:off x="3703680" y="4789440"/>
            <a:ext cx="297000" cy="22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SMARTPenAnnotation118"/>
          <p:cNvSpPr/>
          <p:nvPr/>
        </p:nvSpPr>
        <p:spPr>
          <a:xfrm>
            <a:off x="4079880" y="4583160"/>
            <a:ext cx="46080" cy="4284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SMARTPenAnnotation119"/>
          <p:cNvSpPr/>
          <p:nvPr/>
        </p:nvSpPr>
        <p:spPr>
          <a:xfrm>
            <a:off x="5680080" y="5178600"/>
            <a:ext cx="114120" cy="5140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SMARTPenAnnotation120"/>
          <p:cNvSpPr/>
          <p:nvPr/>
        </p:nvSpPr>
        <p:spPr>
          <a:xfrm>
            <a:off x="7451640" y="5394240"/>
            <a:ext cx="331920" cy="2174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SMARTPenAnnotation121"/>
          <p:cNvSpPr/>
          <p:nvPr/>
        </p:nvSpPr>
        <p:spPr>
          <a:xfrm>
            <a:off x="7647120" y="5326200"/>
            <a:ext cx="31680" cy="6397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SMARTPenAnnotation122"/>
          <p:cNvSpPr/>
          <p:nvPr/>
        </p:nvSpPr>
        <p:spPr>
          <a:xfrm>
            <a:off x="3692520" y="5332320"/>
            <a:ext cx="168120" cy="233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SMARTPenAnnotation123"/>
          <p:cNvSpPr/>
          <p:nvPr/>
        </p:nvSpPr>
        <p:spPr>
          <a:xfrm>
            <a:off x="3921120" y="5178600"/>
            <a:ext cx="239760" cy="384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SMARTPenAnnotation124"/>
          <p:cNvSpPr/>
          <p:nvPr/>
        </p:nvSpPr>
        <p:spPr>
          <a:xfrm>
            <a:off x="4218120" y="4984920"/>
            <a:ext cx="342720" cy="5014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SMARTPenAnnotation125"/>
          <p:cNvSpPr/>
          <p:nvPr/>
        </p:nvSpPr>
        <p:spPr>
          <a:xfrm>
            <a:off x="5556240" y="5854680"/>
            <a:ext cx="203040" cy="214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SMARTPenAnnotation126"/>
          <p:cNvSpPr/>
          <p:nvPr/>
        </p:nvSpPr>
        <p:spPr>
          <a:xfrm>
            <a:off x="5846760" y="5562720"/>
            <a:ext cx="222120" cy="469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SMARTPenAnnotation127"/>
          <p:cNvSpPr/>
          <p:nvPr/>
        </p:nvSpPr>
        <p:spPr>
          <a:xfrm>
            <a:off x="6172200" y="5413320"/>
            <a:ext cx="274680" cy="501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SMARTPenAnnotation128"/>
          <p:cNvSpPr/>
          <p:nvPr/>
        </p:nvSpPr>
        <p:spPr>
          <a:xfrm>
            <a:off x="7394400" y="6035760"/>
            <a:ext cx="217800" cy="261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SMARTPenAnnotation129"/>
          <p:cNvSpPr/>
          <p:nvPr/>
        </p:nvSpPr>
        <p:spPr>
          <a:xfrm>
            <a:off x="7693200" y="5932440"/>
            <a:ext cx="171360" cy="273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SMARTPenAnnotation130"/>
          <p:cNvSpPr/>
          <p:nvPr/>
        </p:nvSpPr>
        <p:spPr>
          <a:xfrm>
            <a:off x="7908840" y="5842080"/>
            <a:ext cx="457200" cy="363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SMARTPenAnnotation131"/>
          <p:cNvSpPr/>
          <p:nvPr/>
        </p:nvSpPr>
        <p:spPr>
          <a:xfrm>
            <a:off x="4092480" y="5715000"/>
            <a:ext cx="79560" cy="3650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SMARTPenAnnotation132"/>
          <p:cNvSpPr/>
          <p:nvPr/>
        </p:nvSpPr>
        <p:spPr>
          <a:xfrm>
            <a:off x="3898800" y="5646600"/>
            <a:ext cx="517680" cy="582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SMARTPenAnnotation133"/>
          <p:cNvSpPr/>
          <p:nvPr/>
        </p:nvSpPr>
        <p:spPr>
          <a:xfrm>
            <a:off x="5989680" y="6022800"/>
            <a:ext cx="171360" cy="4924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SMARTPenAnnotation134"/>
          <p:cNvSpPr/>
          <p:nvPr/>
        </p:nvSpPr>
        <p:spPr>
          <a:xfrm>
            <a:off x="5756400" y="5934240"/>
            <a:ext cx="734760" cy="691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SMARTPenAnnotation135"/>
          <p:cNvSpPr/>
          <p:nvPr/>
        </p:nvSpPr>
        <p:spPr>
          <a:xfrm>
            <a:off x="7623000" y="6389640"/>
            <a:ext cx="355680" cy="330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SMARTPenAnnotation136"/>
          <p:cNvSpPr/>
          <p:nvPr/>
        </p:nvSpPr>
        <p:spPr>
          <a:xfrm>
            <a:off x="7418520" y="6207120"/>
            <a:ext cx="725400" cy="592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SMARTPenAnnotation137"/>
          <p:cNvSpPr/>
          <p:nvPr/>
        </p:nvSpPr>
        <p:spPr>
          <a:xfrm>
            <a:off x="333360" y="2290680"/>
            <a:ext cx="282600" cy="8636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SMARTPenAnnotation138"/>
          <p:cNvSpPr/>
          <p:nvPr/>
        </p:nvSpPr>
        <p:spPr>
          <a:xfrm>
            <a:off x="171360" y="2754360"/>
            <a:ext cx="411120" cy="103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SMARTPenAnnotation139"/>
          <p:cNvSpPr/>
          <p:nvPr/>
        </p:nvSpPr>
        <p:spPr>
          <a:xfrm>
            <a:off x="595440" y="2400480"/>
            <a:ext cx="296640" cy="617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SMARTPenAnnotation140"/>
          <p:cNvSpPr/>
          <p:nvPr/>
        </p:nvSpPr>
        <p:spPr>
          <a:xfrm>
            <a:off x="868320" y="2697120"/>
            <a:ext cx="320760" cy="250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SMARTPenAnnotation141"/>
          <p:cNvSpPr/>
          <p:nvPr/>
        </p:nvSpPr>
        <p:spPr>
          <a:xfrm>
            <a:off x="868320" y="2708280"/>
            <a:ext cx="239760" cy="331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SMARTPenAnnotation142"/>
          <p:cNvSpPr/>
          <p:nvPr/>
        </p:nvSpPr>
        <p:spPr>
          <a:xfrm>
            <a:off x="1028880" y="2451240"/>
            <a:ext cx="296640" cy="604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SMARTPenAnnotation143"/>
          <p:cNvSpPr/>
          <p:nvPr/>
        </p:nvSpPr>
        <p:spPr>
          <a:xfrm>
            <a:off x="1486080" y="2720880"/>
            <a:ext cx="274320" cy="57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SMARTPenAnnotation144"/>
          <p:cNvSpPr/>
          <p:nvPr/>
        </p:nvSpPr>
        <p:spPr>
          <a:xfrm>
            <a:off x="1486080" y="2835360"/>
            <a:ext cx="285480" cy="33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SMARTPenAnnotation145"/>
          <p:cNvSpPr/>
          <p:nvPr/>
        </p:nvSpPr>
        <p:spPr>
          <a:xfrm>
            <a:off x="1974960" y="2354400"/>
            <a:ext cx="264960" cy="617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SMARTPenAnnotation146"/>
          <p:cNvSpPr/>
          <p:nvPr/>
        </p:nvSpPr>
        <p:spPr>
          <a:xfrm>
            <a:off x="2251080" y="2584440"/>
            <a:ext cx="320760" cy="330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SMARTPenAnnotation147"/>
          <p:cNvSpPr/>
          <p:nvPr/>
        </p:nvSpPr>
        <p:spPr>
          <a:xfrm>
            <a:off x="2228760" y="2639880"/>
            <a:ext cx="378000" cy="331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SMARTPenAnnotation148"/>
          <p:cNvSpPr/>
          <p:nvPr/>
        </p:nvSpPr>
        <p:spPr>
          <a:xfrm>
            <a:off x="2720880" y="2732040"/>
            <a:ext cx="354240" cy="11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SMARTPenAnnotation149"/>
          <p:cNvSpPr/>
          <p:nvPr/>
        </p:nvSpPr>
        <p:spPr>
          <a:xfrm>
            <a:off x="2892600" y="2593800"/>
            <a:ext cx="10800" cy="400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SMARTPenAnnotation150"/>
          <p:cNvSpPr/>
          <p:nvPr/>
        </p:nvSpPr>
        <p:spPr>
          <a:xfrm>
            <a:off x="3143160" y="2536920"/>
            <a:ext cx="34920" cy="457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SMARTPenAnnotation151"/>
          <p:cNvSpPr/>
          <p:nvPr/>
        </p:nvSpPr>
        <p:spPr>
          <a:xfrm>
            <a:off x="3246480" y="2496960"/>
            <a:ext cx="210960" cy="576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SMARTPenAnnotation152"/>
          <p:cNvSpPr/>
          <p:nvPr/>
        </p:nvSpPr>
        <p:spPr>
          <a:xfrm>
            <a:off x="3657600" y="2446200"/>
            <a:ext cx="285840" cy="628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SMARTPenAnnotation153"/>
          <p:cNvSpPr/>
          <p:nvPr/>
        </p:nvSpPr>
        <p:spPr>
          <a:xfrm>
            <a:off x="3908520" y="2685960"/>
            <a:ext cx="412560" cy="274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SMARTPenAnnotation154"/>
          <p:cNvSpPr/>
          <p:nvPr/>
        </p:nvSpPr>
        <p:spPr>
          <a:xfrm>
            <a:off x="3908520" y="2685960"/>
            <a:ext cx="377640" cy="400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SMARTPenAnnotation155"/>
          <p:cNvSpPr/>
          <p:nvPr/>
        </p:nvSpPr>
        <p:spPr>
          <a:xfrm>
            <a:off x="4354560" y="2879640"/>
            <a:ext cx="274680" cy="7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SMARTPenAnnotation156"/>
          <p:cNvSpPr/>
          <p:nvPr/>
        </p:nvSpPr>
        <p:spPr>
          <a:xfrm>
            <a:off x="4651200" y="2664000"/>
            <a:ext cx="24120" cy="3870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SMARTPenAnnotation157"/>
          <p:cNvSpPr/>
          <p:nvPr/>
        </p:nvSpPr>
        <p:spPr>
          <a:xfrm>
            <a:off x="4811760" y="2593800"/>
            <a:ext cx="233280" cy="503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SMARTPenAnnotation158"/>
          <p:cNvSpPr/>
          <p:nvPr/>
        </p:nvSpPr>
        <p:spPr>
          <a:xfrm>
            <a:off x="5078520" y="2549520"/>
            <a:ext cx="328680" cy="5936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SMARTPenAnnotation159"/>
          <p:cNvSpPr/>
          <p:nvPr/>
        </p:nvSpPr>
        <p:spPr>
          <a:xfrm>
            <a:off x="5394240" y="2720880"/>
            <a:ext cx="309600" cy="273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SMARTPenAnnotation160"/>
          <p:cNvSpPr/>
          <p:nvPr/>
        </p:nvSpPr>
        <p:spPr>
          <a:xfrm>
            <a:off x="5418000" y="2674800"/>
            <a:ext cx="308160" cy="376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SMARTPenAnnotation161"/>
          <p:cNvSpPr/>
          <p:nvPr/>
        </p:nvSpPr>
        <p:spPr>
          <a:xfrm>
            <a:off x="5794200" y="2835360"/>
            <a:ext cx="206640" cy="33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SMARTPenAnnotation162"/>
          <p:cNvSpPr/>
          <p:nvPr/>
        </p:nvSpPr>
        <p:spPr>
          <a:xfrm>
            <a:off x="6103800" y="2617920"/>
            <a:ext cx="250920" cy="171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SMARTPenAnnotation163"/>
          <p:cNvSpPr/>
          <p:nvPr/>
        </p:nvSpPr>
        <p:spPr>
          <a:xfrm>
            <a:off x="6251400" y="2606760"/>
            <a:ext cx="46080" cy="525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SMARTPenAnnotation164"/>
          <p:cNvSpPr/>
          <p:nvPr/>
        </p:nvSpPr>
        <p:spPr>
          <a:xfrm>
            <a:off x="6286680" y="2565360"/>
            <a:ext cx="191880" cy="623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SMARTPenAnnotation165"/>
          <p:cNvSpPr/>
          <p:nvPr/>
        </p:nvSpPr>
        <p:spPr>
          <a:xfrm>
            <a:off x="6389640" y="2468520"/>
            <a:ext cx="239760" cy="157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. 268- 273 #9-18, 36-38,67-7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2 turning points, x-intercept = 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Po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Minimum degree of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turning points, x-intercepts = -2, -1, 0, 1,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degree is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4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0x+12, given that k=2 and is a z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SMARTPenAnnotation42"/>
          <p:cNvSpPr/>
          <p:nvPr/>
        </p:nvSpPr>
        <p:spPr>
          <a:xfrm>
            <a:off x="5651640" y="1074600"/>
            <a:ext cx="188640" cy="547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SMARTPenAnnotation43"/>
          <p:cNvSpPr/>
          <p:nvPr/>
        </p:nvSpPr>
        <p:spPr>
          <a:xfrm>
            <a:off x="5829480" y="1268280"/>
            <a:ext cx="239400" cy="331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SMARTPenAnnotation44"/>
          <p:cNvSpPr/>
          <p:nvPr/>
        </p:nvSpPr>
        <p:spPr>
          <a:xfrm>
            <a:off x="5807160" y="1235160"/>
            <a:ext cx="215640" cy="4111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SMARTPenAnnotation45"/>
          <p:cNvSpPr/>
          <p:nvPr/>
        </p:nvSpPr>
        <p:spPr>
          <a:xfrm>
            <a:off x="6093000" y="1428840"/>
            <a:ext cx="285480" cy="460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SMARTPenAnnotation46"/>
          <p:cNvSpPr/>
          <p:nvPr/>
        </p:nvSpPr>
        <p:spPr>
          <a:xfrm>
            <a:off x="6435720" y="1211400"/>
            <a:ext cx="308160" cy="3650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SMARTPenAnnotation47"/>
          <p:cNvSpPr/>
          <p:nvPr/>
        </p:nvSpPr>
        <p:spPr>
          <a:xfrm>
            <a:off x="6651720" y="1074600"/>
            <a:ext cx="285480" cy="6048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SMARTPenAnnotation48"/>
          <p:cNvSpPr/>
          <p:nvPr/>
        </p:nvSpPr>
        <p:spPr>
          <a:xfrm>
            <a:off x="868320" y="2846520"/>
            <a:ext cx="320760" cy="33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SMARTPenAnnotation49"/>
          <p:cNvSpPr/>
          <p:nvPr/>
        </p:nvSpPr>
        <p:spPr>
          <a:xfrm>
            <a:off x="1028880" y="2743200"/>
            <a:ext cx="10800" cy="111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SMARTPenAnnotation50"/>
          <p:cNvSpPr/>
          <p:nvPr/>
        </p:nvSpPr>
        <p:spPr>
          <a:xfrm>
            <a:off x="1039680" y="3040200"/>
            <a:ext cx="11160" cy="108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SMARTPenAnnotation51"/>
          <p:cNvSpPr/>
          <p:nvPr/>
        </p:nvSpPr>
        <p:spPr>
          <a:xfrm>
            <a:off x="1279440" y="2743200"/>
            <a:ext cx="343080" cy="2905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SMARTPenAnnotation52"/>
          <p:cNvSpPr/>
          <p:nvPr/>
        </p:nvSpPr>
        <p:spPr>
          <a:xfrm>
            <a:off x="1371600" y="3475080"/>
            <a:ext cx="307800" cy="2858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SMARTPenAnnotation53"/>
          <p:cNvSpPr/>
          <p:nvPr/>
        </p:nvSpPr>
        <p:spPr>
          <a:xfrm>
            <a:off x="1440000" y="3440160"/>
            <a:ext cx="206280" cy="3427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SMARTPenAnnotation54"/>
          <p:cNvSpPr/>
          <p:nvPr/>
        </p:nvSpPr>
        <p:spPr>
          <a:xfrm>
            <a:off x="1714680" y="3314880"/>
            <a:ext cx="204480" cy="3189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SMARTPenAnnotation55"/>
          <p:cNvSpPr/>
          <p:nvPr/>
        </p:nvSpPr>
        <p:spPr>
          <a:xfrm>
            <a:off x="1989000" y="3657600"/>
            <a:ext cx="274680" cy="223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SMARTPenAnnotation56"/>
          <p:cNvSpPr/>
          <p:nvPr/>
        </p:nvSpPr>
        <p:spPr>
          <a:xfrm>
            <a:off x="2308320" y="3451320"/>
            <a:ext cx="342720" cy="411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SMARTPenAnnotation57"/>
          <p:cNvSpPr/>
          <p:nvPr/>
        </p:nvSpPr>
        <p:spPr>
          <a:xfrm>
            <a:off x="2732040" y="3600360"/>
            <a:ext cx="285840" cy="1825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SMARTPenAnnotation58"/>
          <p:cNvSpPr/>
          <p:nvPr/>
        </p:nvSpPr>
        <p:spPr>
          <a:xfrm>
            <a:off x="2720880" y="3589200"/>
            <a:ext cx="239760" cy="262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SMARTPenAnnotation59"/>
          <p:cNvSpPr/>
          <p:nvPr/>
        </p:nvSpPr>
        <p:spPr>
          <a:xfrm>
            <a:off x="2994120" y="3382920"/>
            <a:ext cx="320760" cy="2048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SMARTPenAnnotation60"/>
          <p:cNvSpPr/>
          <p:nvPr/>
        </p:nvSpPr>
        <p:spPr>
          <a:xfrm>
            <a:off x="3360600" y="3726000"/>
            <a:ext cx="250920" cy="108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SMARTPenAnnotation61"/>
          <p:cNvSpPr/>
          <p:nvPr/>
        </p:nvSpPr>
        <p:spPr>
          <a:xfrm>
            <a:off x="3738600" y="3508200"/>
            <a:ext cx="272880" cy="2700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SMARTPenAnnotation62"/>
          <p:cNvSpPr/>
          <p:nvPr/>
        </p:nvSpPr>
        <p:spPr>
          <a:xfrm>
            <a:off x="4160880" y="3565440"/>
            <a:ext cx="399960" cy="2984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SMARTPenAnnotation63"/>
          <p:cNvSpPr/>
          <p:nvPr/>
        </p:nvSpPr>
        <p:spPr>
          <a:xfrm>
            <a:off x="4149720" y="3622680"/>
            <a:ext cx="330120" cy="241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SMARTPenAnnotation64"/>
          <p:cNvSpPr/>
          <p:nvPr/>
        </p:nvSpPr>
        <p:spPr>
          <a:xfrm>
            <a:off x="4640400" y="3726000"/>
            <a:ext cx="296640" cy="108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SMARTPenAnnotation65"/>
          <p:cNvSpPr/>
          <p:nvPr/>
        </p:nvSpPr>
        <p:spPr>
          <a:xfrm>
            <a:off x="4732200" y="3589200"/>
            <a:ext cx="33480" cy="3193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SMARTPenAnnotation66"/>
          <p:cNvSpPr/>
          <p:nvPr/>
        </p:nvSpPr>
        <p:spPr>
          <a:xfrm>
            <a:off x="5076720" y="3543480"/>
            <a:ext cx="260280" cy="3538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SMARTPenAnnotation67"/>
          <p:cNvSpPr/>
          <p:nvPr/>
        </p:nvSpPr>
        <p:spPr>
          <a:xfrm>
            <a:off x="1103400" y="3247920"/>
            <a:ext cx="4535280" cy="6825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SMARTPenAnnotation68"/>
          <p:cNvSpPr/>
          <p:nvPr/>
        </p:nvSpPr>
        <p:spPr>
          <a:xfrm>
            <a:off x="79200" y="3532320"/>
            <a:ext cx="320760" cy="352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SMARTPenAnnotation69"/>
          <p:cNvSpPr/>
          <p:nvPr/>
        </p:nvSpPr>
        <p:spPr>
          <a:xfrm>
            <a:off x="182520" y="3543480"/>
            <a:ext cx="252360" cy="320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SMARTPenAnnotation70"/>
          <p:cNvSpPr/>
          <p:nvPr/>
        </p:nvSpPr>
        <p:spPr>
          <a:xfrm>
            <a:off x="468360" y="3714840"/>
            <a:ext cx="182520" cy="21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SMARTPenAnnotation71"/>
          <p:cNvSpPr/>
          <p:nvPr/>
        </p:nvSpPr>
        <p:spPr>
          <a:xfrm>
            <a:off x="687240" y="3486240"/>
            <a:ext cx="319320" cy="4204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SMARTPenAnnotation72"/>
          <p:cNvSpPr/>
          <p:nvPr/>
        </p:nvSpPr>
        <p:spPr>
          <a:xfrm>
            <a:off x="2697120" y="2998800"/>
            <a:ext cx="297000" cy="212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SMARTPenAnnotation73"/>
          <p:cNvSpPr/>
          <p:nvPr/>
        </p:nvSpPr>
        <p:spPr>
          <a:xfrm>
            <a:off x="2651040" y="2982960"/>
            <a:ext cx="285840" cy="274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SMARTPenAnnotation74"/>
          <p:cNvSpPr/>
          <p:nvPr/>
        </p:nvSpPr>
        <p:spPr>
          <a:xfrm>
            <a:off x="3040200" y="2800440"/>
            <a:ext cx="274680" cy="1890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SMARTPenAnnotation75"/>
          <p:cNvSpPr/>
          <p:nvPr/>
        </p:nvSpPr>
        <p:spPr>
          <a:xfrm>
            <a:off x="1360440" y="4068720"/>
            <a:ext cx="385920" cy="2970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SMARTPenAnnotation76"/>
          <p:cNvSpPr/>
          <p:nvPr/>
        </p:nvSpPr>
        <p:spPr>
          <a:xfrm>
            <a:off x="1355760" y="4057560"/>
            <a:ext cx="279360" cy="263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SMARTPenAnnotation77"/>
          <p:cNvSpPr/>
          <p:nvPr/>
        </p:nvSpPr>
        <p:spPr>
          <a:xfrm>
            <a:off x="1714680" y="3897360"/>
            <a:ext cx="299880" cy="237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SMARTPenAnnotation78"/>
          <p:cNvSpPr/>
          <p:nvPr/>
        </p:nvSpPr>
        <p:spPr>
          <a:xfrm>
            <a:off x="2092320" y="4251240"/>
            <a:ext cx="330120" cy="12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SMARTPenAnnotation79"/>
          <p:cNvSpPr/>
          <p:nvPr/>
        </p:nvSpPr>
        <p:spPr>
          <a:xfrm>
            <a:off x="2479680" y="4046400"/>
            <a:ext cx="388800" cy="400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SMARTPenAnnotation80"/>
          <p:cNvSpPr/>
          <p:nvPr/>
        </p:nvSpPr>
        <p:spPr>
          <a:xfrm>
            <a:off x="2892600" y="4137120"/>
            <a:ext cx="250560" cy="2854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SMARTPenAnnotation81"/>
          <p:cNvSpPr/>
          <p:nvPr/>
        </p:nvSpPr>
        <p:spPr>
          <a:xfrm>
            <a:off x="2809800" y="4172040"/>
            <a:ext cx="265320" cy="228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SMARTPenAnnotation82"/>
          <p:cNvSpPr/>
          <p:nvPr/>
        </p:nvSpPr>
        <p:spPr>
          <a:xfrm>
            <a:off x="3086280" y="4011480"/>
            <a:ext cx="307800" cy="149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SMARTPenAnnotation83"/>
          <p:cNvSpPr/>
          <p:nvPr/>
        </p:nvSpPr>
        <p:spPr>
          <a:xfrm>
            <a:off x="1211400" y="4537080"/>
            <a:ext cx="2296800" cy="103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SMARTPenAnnotation84"/>
          <p:cNvSpPr/>
          <p:nvPr/>
        </p:nvSpPr>
        <p:spPr>
          <a:xfrm>
            <a:off x="2503440" y="4846680"/>
            <a:ext cx="371520" cy="455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SMARTPenAnnotation85"/>
          <p:cNvSpPr/>
          <p:nvPr/>
        </p:nvSpPr>
        <p:spPr>
          <a:xfrm>
            <a:off x="3132000" y="4994280"/>
            <a:ext cx="365400" cy="34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SMARTPenAnnotation86"/>
          <p:cNvSpPr/>
          <p:nvPr/>
        </p:nvSpPr>
        <p:spPr>
          <a:xfrm>
            <a:off x="3527280" y="4800600"/>
            <a:ext cx="301680" cy="411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SMARTPenAnnotation87"/>
          <p:cNvSpPr/>
          <p:nvPr/>
        </p:nvSpPr>
        <p:spPr>
          <a:xfrm>
            <a:off x="3921120" y="4846680"/>
            <a:ext cx="285840" cy="342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SMARTPenAnnotation88"/>
          <p:cNvSpPr/>
          <p:nvPr/>
        </p:nvSpPr>
        <p:spPr>
          <a:xfrm>
            <a:off x="4000680" y="4835520"/>
            <a:ext cx="136440" cy="353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SMARTPenAnnotation89"/>
          <p:cNvSpPr/>
          <p:nvPr/>
        </p:nvSpPr>
        <p:spPr>
          <a:xfrm>
            <a:off x="4446720" y="4937040"/>
            <a:ext cx="261720" cy="34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SMARTPenAnnotation90"/>
          <p:cNvSpPr/>
          <p:nvPr/>
        </p:nvSpPr>
        <p:spPr>
          <a:xfrm>
            <a:off x="4525920" y="4846680"/>
            <a:ext cx="46080" cy="331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SMARTPenAnnotation91"/>
          <p:cNvSpPr/>
          <p:nvPr/>
        </p:nvSpPr>
        <p:spPr>
          <a:xfrm>
            <a:off x="4824360" y="4686480"/>
            <a:ext cx="319320" cy="479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SMARTPenAnnotation92"/>
          <p:cNvSpPr/>
          <p:nvPr/>
        </p:nvSpPr>
        <p:spPr>
          <a:xfrm>
            <a:off x="4778280" y="3040200"/>
            <a:ext cx="239760" cy="10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SMARTPenAnnotation93"/>
          <p:cNvSpPr/>
          <p:nvPr/>
        </p:nvSpPr>
        <p:spPr>
          <a:xfrm>
            <a:off x="5121360" y="2857680"/>
            <a:ext cx="237960" cy="318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SMARTPenAnnotation94"/>
          <p:cNvSpPr/>
          <p:nvPr/>
        </p:nvSpPr>
        <p:spPr>
          <a:xfrm>
            <a:off x="3154320" y="5532480"/>
            <a:ext cx="285840" cy="11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SMARTPenAnnotation95"/>
          <p:cNvSpPr/>
          <p:nvPr/>
        </p:nvSpPr>
        <p:spPr>
          <a:xfrm>
            <a:off x="3567240" y="5349960"/>
            <a:ext cx="295200" cy="536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SMARTPenAnnotation96"/>
          <p:cNvSpPr/>
          <p:nvPr/>
        </p:nvSpPr>
        <p:spPr>
          <a:xfrm>
            <a:off x="3978360" y="5418000"/>
            <a:ext cx="204840" cy="365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SMARTPenAnnotation97"/>
          <p:cNvSpPr/>
          <p:nvPr/>
        </p:nvSpPr>
        <p:spPr>
          <a:xfrm>
            <a:off x="3921120" y="5394240"/>
            <a:ext cx="239760" cy="424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SMARTPenAnnotation98"/>
          <p:cNvSpPr/>
          <p:nvPr/>
        </p:nvSpPr>
        <p:spPr>
          <a:xfrm>
            <a:off x="4389480" y="5532480"/>
            <a:ext cx="217440" cy="46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SMARTPenAnnotation99"/>
          <p:cNvSpPr/>
          <p:nvPr/>
        </p:nvSpPr>
        <p:spPr>
          <a:xfrm>
            <a:off x="4479840" y="5394240"/>
            <a:ext cx="23760" cy="355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SMARTPenAnnotation100"/>
          <p:cNvSpPr/>
          <p:nvPr/>
        </p:nvSpPr>
        <p:spPr>
          <a:xfrm>
            <a:off x="4710240" y="5361120"/>
            <a:ext cx="55440" cy="388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SMARTPenAnnotation101"/>
          <p:cNvSpPr/>
          <p:nvPr/>
        </p:nvSpPr>
        <p:spPr>
          <a:xfrm>
            <a:off x="4869000" y="5281560"/>
            <a:ext cx="239400" cy="354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SMARTPenAnnotation102"/>
          <p:cNvSpPr/>
          <p:nvPr/>
        </p:nvSpPr>
        <p:spPr>
          <a:xfrm>
            <a:off x="2857680" y="5875200"/>
            <a:ext cx="2492280" cy="136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SMARTPenAnnotation103"/>
          <p:cNvSpPr/>
          <p:nvPr/>
        </p:nvSpPr>
        <p:spPr>
          <a:xfrm>
            <a:off x="4264200" y="6149880"/>
            <a:ext cx="269640" cy="68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SMARTPenAnnotation104"/>
          <p:cNvSpPr/>
          <p:nvPr/>
        </p:nvSpPr>
        <p:spPr>
          <a:xfrm>
            <a:off x="4653000" y="6012000"/>
            <a:ext cx="226800" cy="206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SMARTPenAnnotation105"/>
          <p:cNvSpPr/>
          <p:nvPr/>
        </p:nvSpPr>
        <p:spPr>
          <a:xfrm>
            <a:off x="4835520" y="5978520"/>
            <a:ext cx="44280" cy="604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SMARTPenAnnotation106"/>
          <p:cNvSpPr/>
          <p:nvPr/>
        </p:nvSpPr>
        <p:spPr>
          <a:xfrm>
            <a:off x="5040360" y="5978520"/>
            <a:ext cx="1154160" cy="376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SMARTPenAnnotation107"/>
          <p:cNvSpPr/>
          <p:nvPr/>
        </p:nvSpPr>
        <p:spPr>
          <a:xfrm>
            <a:off x="6000840" y="2879640"/>
            <a:ext cx="182520" cy="34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SMARTPenAnnotation108"/>
          <p:cNvSpPr/>
          <p:nvPr/>
        </p:nvSpPr>
        <p:spPr>
          <a:xfrm>
            <a:off x="6275520" y="2697120"/>
            <a:ext cx="114120" cy="146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SMARTPenAnnotation109"/>
          <p:cNvSpPr/>
          <p:nvPr/>
        </p:nvSpPr>
        <p:spPr>
          <a:xfrm>
            <a:off x="6378480" y="2697120"/>
            <a:ext cx="11160" cy="274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SMARTPenAnnotation110"/>
          <p:cNvSpPr/>
          <p:nvPr/>
        </p:nvSpPr>
        <p:spPr>
          <a:xfrm>
            <a:off x="6000840" y="3051000"/>
            <a:ext cx="536400" cy="57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SMARTPenAnnotation111"/>
          <p:cNvSpPr/>
          <p:nvPr/>
        </p:nvSpPr>
        <p:spPr>
          <a:xfrm>
            <a:off x="5497560" y="3063960"/>
            <a:ext cx="171360" cy="11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SMARTPenAnnotation112"/>
          <p:cNvSpPr/>
          <p:nvPr/>
        </p:nvSpPr>
        <p:spPr>
          <a:xfrm>
            <a:off x="5543640" y="2994120"/>
            <a:ext cx="46080" cy="2854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SMARTPenAnnotation113"/>
          <p:cNvSpPr/>
          <p:nvPr/>
        </p:nvSpPr>
        <p:spPr>
          <a:xfrm>
            <a:off x="6035760" y="3246480"/>
            <a:ext cx="239760" cy="171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SMARTPenAnnotation114"/>
          <p:cNvSpPr/>
          <p:nvPr/>
        </p:nvSpPr>
        <p:spPr>
          <a:xfrm>
            <a:off x="6068880" y="3246480"/>
            <a:ext cx="114480" cy="217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SMARTPenAnnotation115"/>
          <p:cNvSpPr/>
          <p:nvPr/>
        </p:nvSpPr>
        <p:spPr>
          <a:xfrm>
            <a:off x="6240600" y="3314880"/>
            <a:ext cx="182520" cy="21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SMARTPenAnnotation116"/>
          <p:cNvSpPr/>
          <p:nvPr/>
        </p:nvSpPr>
        <p:spPr>
          <a:xfrm>
            <a:off x="6423120" y="3178080"/>
            <a:ext cx="320760" cy="228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assig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288-29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-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1-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7-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3-6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SMARTPenAnnotation0"/>
          <p:cNvSpPr/>
          <p:nvPr/>
        </p:nvSpPr>
        <p:spPr>
          <a:xfrm>
            <a:off x="2309760" y="2268360"/>
            <a:ext cx="308160" cy="338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SMARTPenAnnotation1"/>
          <p:cNvSpPr/>
          <p:nvPr/>
        </p:nvSpPr>
        <p:spPr>
          <a:xfrm>
            <a:off x="2639880" y="2435400"/>
            <a:ext cx="57240" cy="171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SMARTPenAnnotation2"/>
          <p:cNvSpPr/>
          <p:nvPr/>
        </p:nvSpPr>
        <p:spPr>
          <a:xfrm>
            <a:off x="2629080" y="2332080"/>
            <a:ext cx="360" cy="11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SMARTPenAnnotation3"/>
          <p:cNvSpPr/>
          <p:nvPr/>
        </p:nvSpPr>
        <p:spPr>
          <a:xfrm>
            <a:off x="2778120" y="2411280"/>
            <a:ext cx="171360" cy="223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SMARTPenAnnotation4"/>
          <p:cNvSpPr/>
          <p:nvPr/>
        </p:nvSpPr>
        <p:spPr>
          <a:xfrm>
            <a:off x="3006720" y="2435400"/>
            <a:ext cx="44280" cy="171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SMARTPenAnnotation5"/>
          <p:cNvSpPr/>
          <p:nvPr/>
        </p:nvSpPr>
        <p:spPr>
          <a:xfrm>
            <a:off x="3017880" y="2320920"/>
            <a:ext cx="3240" cy="360"/>
          </a:xfrm>
          <a:prstGeom prst="pie">
            <a:avLst/>
          </a:prstGeom>
          <a:solidFill>
            <a:srgbClr val="ffcc00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SMARTPenAnnotation6"/>
          <p:cNvSpPr/>
          <p:nvPr/>
        </p:nvSpPr>
        <p:spPr>
          <a:xfrm>
            <a:off x="3178080" y="2282760"/>
            <a:ext cx="330120" cy="328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SMARTPenAnnotation7"/>
          <p:cNvSpPr/>
          <p:nvPr/>
        </p:nvSpPr>
        <p:spPr>
          <a:xfrm>
            <a:off x="3565440" y="2365200"/>
            <a:ext cx="184320" cy="2066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SMARTPenAnnotation8"/>
          <p:cNvSpPr/>
          <p:nvPr/>
        </p:nvSpPr>
        <p:spPr>
          <a:xfrm>
            <a:off x="3772080" y="2378160"/>
            <a:ext cx="492120" cy="490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SMARTPenAnnotation9"/>
          <p:cNvSpPr/>
          <p:nvPr/>
        </p:nvSpPr>
        <p:spPr>
          <a:xfrm>
            <a:off x="2286000" y="2685960"/>
            <a:ext cx="326880" cy="503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SMARTPenAnnotation10"/>
          <p:cNvSpPr/>
          <p:nvPr/>
        </p:nvSpPr>
        <p:spPr>
          <a:xfrm>
            <a:off x="2160720" y="2916360"/>
            <a:ext cx="514080" cy="158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SMARTPenAnnotation11"/>
          <p:cNvSpPr/>
          <p:nvPr/>
        </p:nvSpPr>
        <p:spPr>
          <a:xfrm>
            <a:off x="2754360" y="2914560"/>
            <a:ext cx="263520" cy="149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SMARTPenAnnotation12"/>
          <p:cNvSpPr/>
          <p:nvPr/>
        </p:nvSpPr>
        <p:spPr>
          <a:xfrm>
            <a:off x="3052800" y="2779560"/>
            <a:ext cx="387360" cy="306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SMARTPenAnnotation13"/>
          <p:cNvSpPr/>
          <p:nvPr/>
        </p:nvSpPr>
        <p:spPr>
          <a:xfrm>
            <a:off x="3429000" y="2800440"/>
            <a:ext cx="3240" cy="360"/>
          </a:xfrm>
          <a:prstGeom prst="pie">
            <a:avLst/>
          </a:prstGeom>
          <a:solidFill>
            <a:srgbClr val="ffcc00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SMARTPenAnnotation14"/>
          <p:cNvSpPr/>
          <p:nvPr/>
        </p:nvSpPr>
        <p:spPr>
          <a:xfrm>
            <a:off x="3521160" y="2925720"/>
            <a:ext cx="239760" cy="165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SMARTPenAnnotation15"/>
          <p:cNvSpPr/>
          <p:nvPr/>
        </p:nvSpPr>
        <p:spPr>
          <a:xfrm>
            <a:off x="3463920" y="2894040"/>
            <a:ext cx="547560" cy="453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SMARTPenAnnotation16"/>
          <p:cNvSpPr/>
          <p:nvPr/>
        </p:nvSpPr>
        <p:spPr>
          <a:xfrm>
            <a:off x="4275000" y="2846520"/>
            <a:ext cx="239760" cy="1965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SMARTPenAnnotation17"/>
          <p:cNvSpPr/>
          <p:nvPr/>
        </p:nvSpPr>
        <p:spPr>
          <a:xfrm>
            <a:off x="4446720" y="2800440"/>
            <a:ext cx="215640" cy="204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SMARTPenAnnotation18"/>
          <p:cNvSpPr/>
          <p:nvPr/>
        </p:nvSpPr>
        <p:spPr>
          <a:xfrm>
            <a:off x="4686480" y="2857680"/>
            <a:ext cx="285480" cy="158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SMARTPenAnnotation19"/>
          <p:cNvSpPr/>
          <p:nvPr/>
        </p:nvSpPr>
        <p:spPr>
          <a:xfrm>
            <a:off x="4994280" y="2835360"/>
            <a:ext cx="331920" cy="171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SMARTPenAnnotation20"/>
          <p:cNvSpPr/>
          <p:nvPr/>
        </p:nvSpPr>
        <p:spPr>
          <a:xfrm>
            <a:off x="5326200" y="2743200"/>
            <a:ext cx="360" cy="11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SMARTPenAnnotation21"/>
          <p:cNvSpPr/>
          <p:nvPr/>
        </p:nvSpPr>
        <p:spPr>
          <a:xfrm>
            <a:off x="5384880" y="2811600"/>
            <a:ext cx="250920" cy="201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SMARTPenAnnotation22"/>
          <p:cNvSpPr/>
          <p:nvPr/>
        </p:nvSpPr>
        <p:spPr>
          <a:xfrm>
            <a:off x="5670720" y="2664000"/>
            <a:ext cx="787320" cy="349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SMARTPenAnnotation23"/>
          <p:cNvSpPr/>
          <p:nvPr/>
        </p:nvSpPr>
        <p:spPr>
          <a:xfrm>
            <a:off x="2354400" y="3222720"/>
            <a:ext cx="331560" cy="469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SMARTPenAnnotation24"/>
          <p:cNvSpPr/>
          <p:nvPr/>
        </p:nvSpPr>
        <p:spPr>
          <a:xfrm>
            <a:off x="2263680" y="3451320"/>
            <a:ext cx="476280" cy="1490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SMARTPenAnnotation25"/>
          <p:cNvSpPr/>
          <p:nvPr/>
        </p:nvSpPr>
        <p:spPr>
          <a:xfrm>
            <a:off x="2800440" y="3314880"/>
            <a:ext cx="11160" cy="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SMARTPenAnnotation26"/>
          <p:cNvSpPr/>
          <p:nvPr/>
        </p:nvSpPr>
        <p:spPr>
          <a:xfrm>
            <a:off x="2789280" y="3451320"/>
            <a:ext cx="250920" cy="171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SMARTPenAnnotation27"/>
          <p:cNvSpPr/>
          <p:nvPr/>
        </p:nvSpPr>
        <p:spPr>
          <a:xfrm>
            <a:off x="3086280" y="3316320"/>
            <a:ext cx="250560" cy="295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SMARTPenAnnotation28"/>
          <p:cNvSpPr/>
          <p:nvPr/>
        </p:nvSpPr>
        <p:spPr>
          <a:xfrm>
            <a:off x="3543480" y="3394080"/>
            <a:ext cx="284040" cy="201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SMARTPenAnnotation29"/>
          <p:cNvSpPr/>
          <p:nvPr/>
        </p:nvSpPr>
        <p:spPr>
          <a:xfrm>
            <a:off x="3921120" y="3386160"/>
            <a:ext cx="237960" cy="4316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SMARTPenAnnotation30"/>
          <p:cNvSpPr/>
          <p:nvPr/>
        </p:nvSpPr>
        <p:spPr>
          <a:xfrm>
            <a:off x="4311720" y="3417840"/>
            <a:ext cx="237960" cy="136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SMARTPenAnnotation31"/>
          <p:cNvSpPr/>
          <p:nvPr/>
        </p:nvSpPr>
        <p:spPr>
          <a:xfrm>
            <a:off x="4640400" y="3246480"/>
            <a:ext cx="446040" cy="307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SMARTPenAnnotation32"/>
          <p:cNvSpPr/>
          <p:nvPr/>
        </p:nvSpPr>
        <p:spPr>
          <a:xfrm>
            <a:off x="4879800" y="3325680"/>
            <a:ext cx="312840" cy="2066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SMARTPenAnnotation33"/>
          <p:cNvSpPr/>
          <p:nvPr/>
        </p:nvSpPr>
        <p:spPr>
          <a:xfrm>
            <a:off x="5235480" y="3268800"/>
            <a:ext cx="3240" cy="360"/>
          </a:xfrm>
          <a:prstGeom prst="pie">
            <a:avLst/>
          </a:prstGeom>
          <a:solidFill>
            <a:srgbClr val="ffcc00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SMARTPenAnnotation34"/>
          <p:cNvSpPr/>
          <p:nvPr/>
        </p:nvSpPr>
        <p:spPr>
          <a:xfrm>
            <a:off x="5235480" y="3316320"/>
            <a:ext cx="117720" cy="181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SMARTPenAnnotation35"/>
          <p:cNvSpPr/>
          <p:nvPr/>
        </p:nvSpPr>
        <p:spPr>
          <a:xfrm>
            <a:off x="5388120" y="3314880"/>
            <a:ext cx="485640" cy="234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SMARTPenAnnotation36"/>
          <p:cNvSpPr/>
          <p:nvPr/>
        </p:nvSpPr>
        <p:spPr>
          <a:xfrm>
            <a:off x="2274840" y="3738600"/>
            <a:ext cx="284040" cy="422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SMARTPenAnnotation37"/>
          <p:cNvSpPr/>
          <p:nvPr/>
        </p:nvSpPr>
        <p:spPr>
          <a:xfrm>
            <a:off x="2182680" y="3967200"/>
            <a:ext cx="519120" cy="136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SMARTPenAnnotation38"/>
          <p:cNvSpPr/>
          <p:nvPr/>
        </p:nvSpPr>
        <p:spPr>
          <a:xfrm>
            <a:off x="2813040" y="3803760"/>
            <a:ext cx="330120" cy="288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SMARTPenAnnotation39"/>
          <p:cNvSpPr/>
          <p:nvPr/>
        </p:nvSpPr>
        <p:spPr>
          <a:xfrm>
            <a:off x="3040200" y="3943440"/>
            <a:ext cx="363240" cy="1490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SMARTPenAnnotation40"/>
          <p:cNvSpPr/>
          <p:nvPr/>
        </p:nvSpPr>
        <p:spPr>
          <a:xfrm>
            <a:off x="3406680" y="3954600"/>
            <a:ext cx="306360" cy="171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SMARTPenAnnotation41"/>
          <p:cNvSpPr/>
          <p:nvPr/>
        </p:nvSpPr>
        <p:spPr>
          <a:xfrm>
            <a:off x="3772080" y="3852720"/>
            <a:ext cx="850680" cy="565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1-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urning point, x-intercepts = -1,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turning points, x-intercept = 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3-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3) (a) 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(b) (1,0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(c) x=1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(d) (1,0)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(e) (1,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) (a) c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) (-1, -2), (1,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) x= -1.8, 0, 1.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) (-1, -2), (1,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) n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5) (a) b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(b) (-3, 27), (1,-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(c) x=0, 1.9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(d) (-3, 27), (1,-5)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(e) n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6-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6) (a) f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(b) (-2, -16), (0, 0), (2, 1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(c) x= -2.8, 0, 2.8  (d) (-2, -16), (0, 0), (2, 16) (e) (-2, -16), (2, 1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) (a) 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) (-2, 16), (0,0), (2, 1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) x= -2.8, 0, 2.8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) (-2, 16), (0,0), (2, 1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) (-2, 16), (2, 1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8) (a) e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(b) (-2, 1), (-1, -2), (0,0), (1, -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(c) x= -2.2, 0, 1.2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(d) (-2, 1), (-1, -2), (0,0), (1, -3)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(e) n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MARTPenAnnotation934"/>
          <p:cNvSpPr/>
          <p:nvPr/>
        </p:nvSpPr>
        <p:spPr>
          <a:xfrm>
            <a:off x="3622680" y="2583000"/>
            <a:ext cx="138240" cy="10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MARTPenAnnotation935"/>
          <p:cNvSpPr/>
          <p:nvPr/>
        </p:nvSpPr>
        <p:spPr>
          <a:xfrm>
            <a:off x="7201080" y="1450800"/>
            <a:ext cx="147600" cy="35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160" bIns="-11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MARTPenAnnotation936"/>
          <p:cNvSpPr/>
          <p:nvPr/>
        </p:nvSpPr>
        <p:spPr>
          <a:xfrm>
            <a:off x="7783560" y="2079720"/>
            <a:ext cx="155520" cy="23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6-3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6) (b) (-2, -5.33…), (2, 5.33.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) both are local extr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7)(b) (-2, 3.33..), (1, -1.16666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) Both are local extr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8) (b) (-2, 1.6666), (1, 2.1), (1, -.5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)All are local extr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7-7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7) f(-2)=5, f(1)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8) f(-1)=0, f(0)= -.7, f(3)=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9) f(-1)=-1, f(1) =1, f(2)= 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0) f(-2)=0, f(0)=-3, f(2)=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1) f(-3)=-63, f(1)=3, f(4)=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2) f(-4)=16, f(0)=2, f(4)=-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3) f(-2)=6, f(1)=7, f(2)=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 polynom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the division algorithm, remainder theorem, and factor theor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higher degree polynom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ze polynomials with multiple zer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rational z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polynomial eq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vide poly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 by a monom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6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7)/(2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MARTPenAnnotation851"/>
          <p:cNvSpPr/>
          <p:nvPr/>
        </p:nvSpPr>
        <p:spPr>
          <a:xfrm>
            <a:off x="5646600" y="2057400"/>
            <a:ext cx="308160" cy="4683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MARTPenAnnotation852"/>
          <p:cNvSpPr/>
          <p:nvPr/>
        </p:nvSpPr>
        <p:spPr>
          <a:xfrm>
            <a:off x="5543640" y="2114640"/>
            <a:ext cx="365040" cy="4334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MARTPenAnnotation853"/>
          <p:cNvSpPr/>
          <p:nvPr/>
        </p:nvSpPr>
        <p:spPr>
          <a:xfrm>
            <a:off x="6000840" y="2217600"/>
            <a:ext cx="455400" cy="572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MARTPenAnnotation854"/>
          <p:cNvSpPr/>
          <p:nvPr/>
        </p:nvSpPr>
        <p:spPr>
          <a:xfrm>
            <a:off x="6183360" y="2092320"/>
            <a:ext cx="81000" cy="4507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MARTPenAnnotation855"/>
          <p:cNvSpPr/>
          <p:nvPr/>
        </p:nvSpPr>
        <p:spPr>
          <a:xfrm>
            <a:off x="6462720" y="1954080"/>
            <a:ext cx="554040" cy="5256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MARTPenAnnotation856"/>
          <p:cNvSpPr/>
          <p:nvPr/>
        </p:nvSpPr>
        <p:spPr>
          <a:xfrm>
            <a:off x="5310360" y="2778120"/>
            <a:ext cx="1830240" cy="442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MARTPenAnnotation857"/>
          <p:cNvSpPr/>
          <p:nvPr/>
        </p:nvSpPr>
        <p:spPr>
          <a:xfrm>
            <a:off x="5807160" y="2949480"/>
            <a:ext cx="444240" cy="5238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MARTPenAnnotation858"/>
          <p:cNvSpPr/>
          <p:nvPr/>
        </p:nvSpPr>
        <p:spPr>
          <a:xfrm>
            <a:off x="7326360" y="2765520"/>
            <a:ext cx="114120" cy="237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MARTPenAnnotation859"/>
          <p:cNvSpPr/>
          <p:nvPr/>
        </p:nvSpPr>
        <p:spPr>
          <a:xfrm>
            <a:off x="7304040" y="2892600"/>
            <a:ext cx="147600" cy="108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MARTPenAnnotation860"/>
          <p:cNvSpPr/>
          <p:nvPr/>
        </p:nvSpPr>
        <p:spPr>
          <a:xfrm>
            <a:off x="7829640" y="2206800"/>
            <a:ext cx="79200" cy="4395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MARTPenAnnotation861"/>
          <p:cNvSpPr/>
          <p:nvPr/>
        </p:nvSpPr>
        <p:spPr>
          <a:xfrm>
            <a:off x="7647120" y="2732040"/>
            <a:ext cx="468360" cy="684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MARTPenAnnotation862"/>
          <p:cNvSpPr/>
          <p:nvPr/>
        </p:nvSpPr>
        <p:spPr>
          <a:xfrm>
            <a:off x="7794720" y="2857680"/>
            <a:ext cx="234720" cy="3078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MARTPenAnnotation863"/>
          <p:cNvSpPr/>
          <p:nvPr/>
        </p:nvSpPr>
        <p:spPr>
          <a:xfrm>
            <a:off x="8183520" y="2560680"/>
            <a:ext cx="285840" cy="2858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MARTPenAnnotation864"/>
          <p:cNvSpPr/>
          <p:nvPr/>
        </p:nvSpPr>
        <p:spPr>
          <a:xfrm>
            <a:off x="8213760" y="2571840"/>
            <a:ext cx="198360" cy="2858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MARTPenAnnotation865"/>
          <p:cNvSpPr/>
          <p:nvPr/>
        </p:nvSpPr>
        <p:spPr>
          <a:xfrm>
            <a:off x="8561520" y="2617920"/>
            <a:ext cx="217440" cy="219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MARTPenAnnotation866"/>
          <p:cNvSpPr/>
          <p:nvPr/>
        </p:nvSpPr>
        <p:spPr>
          <a:xfrm>
            <a:off x="8651880" y="2514600"/>
            <a:ext cx="46080" cy="3207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MARTPenAnnotation867"/>
          <p:cNvSpPr/>
          <p:nvPr/>
        </p:nvSpPr>
        <p:spPr>
          <a:xfrm>
            <a:off x="8869320" y="2263680"/>
            <a:ext cx="244440" cy="3430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MARTPenAnnotation868"/>
          <p:cNvSpPr/>
          <p:nvPr/>
        </p:nvSpPr>
        <p:spPr>
          <a:xfrm>
            <a:off x="8823240" y="2629080"/>
            <a:ext cx="309600" cy="1602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MARTPenAnnotation869"/>
          <p:cNvSpPr/>
          <p:nvPr/>
        </p:nvSpPr>
        <p:spPr>
          <a:xfrm>
            <a:off x="8847000" y="2835360"/>
            <a:ext cx="239760" cy="3474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MARTPenAnnotation870"/>
          <p:cNvSpPr/>
          <p:nvPr/>
        </p:nvSpPr>
        <p:spPr>
          <a:xfrm>
            <a:off x="674640" y="3213000"/>
            <a:ext cx="531720" cy="490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MARTPenAnnotation871"/>
          <p:cNvSpPr/>
          <p:nvPr/>
        </p:nvSpPr>
        <p:spPr>
          <a:xfrm>
            <a:off x="1360440" y="3292560"/>
            <a:ext cx="343080" cy="330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MARTPenAnnotation872"/>
          <p:cNvSpPr/>
          <p:nvPr/>
        </p:nvSpPr>
        <p:spPr>
          <a:xfrm>
            <a:off x="1249200" y="3314880"/>
            <a:ext cx="362160" cy="307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MARTPenAnnotation873"/>
          <p:cNvSpPr/>
          <p:nvPr/>
        </p:nvSpPr>
        <p:spPr>
          <a:xfrm>
            <a:off x="1749600" y="3143160"/>
            <a:ext cx="226800" cy="217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MARTPenAnnotation874"/>
          <p:cNvSpPr/>
          <p:nvPr/>
        </p:nvSpPr>
        <p:spPr>
          <a:xfrm>
            <a:off x="2193840" y="3429000"/>
            <a:ext cx="446040" cy="11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MARTPenAnnotation875"/>
          <p:cNvSpPr/>
          <p:nvPr/>
        </p:nvSpPr>
        <p:spPr>
          <a:xfrm>
            <a:off x="2400480" y="3279600"/>
            <a:ext cx="56880" cy="387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MARTPenAnnotation876"/>
          <p:cNvSpPr/>
          <p:nvPr/>
        </p:nvSpPr>
        <p:spPr>
          <a:xfrm>
            <a:off x="2824200" y="3154320"/>
            <a:ext cx="293760" cy="477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MARTPenAnnotation877"/>
          <p:cNvSpPr/>
          <p:nvPr/>
        </p:nvSpPr>
        <p:spPr>
          <a:xfrm>
            <a:off x="3154320" y="3303720"/>
            <a:ext cx="320760" cy="388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MARTPenAnnotation878"/>
          <p:cNvSpPr/>
          <p:nvPr/>
        </p:nvSpPr>
        <p:spPr>
          <a:xfrm>
            <a:off x="3211560" y="3382920"/>
            <a:ext cx="239760" cy="263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MARTPenAnnotation879"/>
          <p:cNvSpPr/>
          <p:nvPr/>
        </p:nvSpPr>
        <p:spPr>
          <a:xfrm>
            <a:off x="3521160" y="3156120"/>
            <a:ext cx="285840" cy="2156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MARTPenAnnotation880"/>
          <p:cNvSpPr/>
          <p:nvPr/>
        </p:nvSpPr>
        <p:spPr>
          <a:xfrm>
            <a:off x="3908520" y="3429000"/>
            <a:ext cx="342720" cy="22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MARTPenAnnotation881"/>
          <p:cNvSpPr/>
          <p:nvPr/>
        </p:nvSpPr>
        <p:spPr>
          <a:xfrm>
            <a:off x="4092480" y="3336840"/>
            <a:ext cx="22320" cy="355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MARTPenAnnotation882"/>
          <p:cNvSpPr/>
          <p:nvPr/>
        </p:nvSpPr>
        <p:spPr>
          <a:xfrm>
            <a:off x="4240080" y="3165480"/>
            <a:ext cx="457200" cy="465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MARTPenAnnotation883"/>
          <p:cNvSpPr/>
          <p:nvPr/>
        </p:nvSpPr>
        <p:spPr>
          <a:xfrm>
            <a:off x="650880" y="3794040"/>
            <a:ext cx="4186080" cy="138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MARTPenAnnotation884"/>
          <p:cNvSpPr/>
          <p:nvPr/>
        </p:nvSpPr>
        <p:spPr>
          <a:xfrm>
            <a:off x="1898640" y="4000680"/>
            <a:ext cx="523800" cy="320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MARTPenAnnotation885"/>
          <p:cNvSpPr/>
          <p:nvPr/>
        </p:nvSpPr>
        <p:spPr>
          <a:xfrm>
            <a:off x="2446200" y="4046400"/>
            <a:ext cx="262080" cy="238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MARTPenAnnotation886"/>
          <p:cNvSpPr/>
          <p:nvPr/>
        </p:nvSpPr>
        <p:spPr>
          <a:xfrm>
            <a:off x="2446200" y="4068720"/>
            <a:ext cx="228600" cy="263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MARTPenAnnotation887"/>
          <p:cNvSpPr/>
          <p:nvPr/>
        </p:nvSpPr>
        <p:spPr>
          <a:xfrm>
            <a:off x="800280" y="4365720"/>
            <a:ext cx="239400" cy="309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MARTPenAnnotation888"/>
          <p:cNvSpPr/>
          <p:nvPr/>
        </p:nvSpPr>
        <p:spPr>
          <a:xfrm>
            <a:off x="1154160" y="4457880"/>
            <a:ext cx="285840" cy="263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MARTPenAnnotation889"/>
          <p:cNvSpPr/>
          <p:nvPr/>
        </p:nvSpPr>
        <p:spPr>
          <a:xfrm>
            <a:off x="1177920" y="4468680"/>
            <a:ext cx="193680" cy="217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MARTPenAnnotation890"/>
          <p:cNvSpPr/>
          <p:nvPr/>
        </p:nvSpPr>
        <p:spPr>
          <a:xfrm>
            <a:off x="1417680" y="4367160"/>
            <a:ext cx="131760" cy="182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MARTPenAnnotation891"/>
          <p:cNvSpPr/>
          <p:nvPr/>
        </p:nvSpPr>
        <p:spPr>
          <a:xfrm>
            <a:off x="685800" y="4800600"/>
            <a:ext cx="892080" cy="34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MARTPenAnnotation892"/>
          <p:cNvSpPr/>
          <p:nvPr/>
        </p:nvSpPr>
        <p:spPr>
          <a:xfrm>
            <a:off x="982800" y="4925880"/>
            <a:ext cx="342720" cy="263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MARTPenAnnotation893"/>
          <p:cNvSpPr/>
          <p:nvPr/>
        </p:nvSpPr>
        <p:spPr>
          <a:xfrm>
            <a:off x="1393920" y="4962600"/>
            <a:ext cx="241200" cy="2030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MARTPenAnnotation894"/>
          <p:cNvSpPr/>
          <p:nvPr/>
        </p:nvSpPr>
        <p:spPr>
          <a:xfrm>
            <a:off x="1371600" y="4971960"/>
            <a:ext cx="217440" cy="171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MARTPenAnnotation895"/>
          <p:cNvSpPr/>
          <p:nvPr/>
        </p:nvSpPr>
        <p:spPr>
          <a:xfrm>
            <a:off x="1874880" y="4824360"/>
            <a:ext cx="307800" cy="22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MARTPenAnnotation896"/>
          <p:cNvSpPr/>
          <p:nvPr/>
        </p:nvSpPr>
        <p:spPr>
          <a:xfrm>
            <a:off x="2000160" y="4697280"/>
            <a:ext cx="34920" cy="271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MARTPenAnnotation897"/>
          <p:cNvSpPr/>
          <p:nvPr/>
        </p:nvSpPr>
        <p:spPr>
          <a:xfrm>
            <a:off x="2503440" y="4457880"/>
            <a:ext cx="239760" cy="3776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MARTPenAnnotation898"/>
          <p:cNvSpPr/>
          <p:nvPr/>
        </p:nvSpPr>
        <p:spPr>
          <a:xfrm>
            <a:off x="2811600" y="4640400"/>
            <a:ext cx="206280" cy="171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MARTPenAnnotation899"/>
          <p:cNvSpPr/>
          <p:nvPr/>
        </p:nvSpPr>
        <p:spPr>
          <a:xfrm>
            <a:off x="2800440" y="4651200"/>
            <a:ext cx="239760" cy="184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MARTPenAnnotation900"/>
          <p:cNvSpPr/>
          <p:nvPr/>
        </p:nvSpPr>
        <p:spPr>
          <a:xfrm>
            <a:off x="3075120" y="4503600"/>
            <a:ext cx="296640" cy="182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MARTPenAnnotation901"/>
          <p:cNvSpPr/>
          <p:nvPr/>
        </p:nvSpPr>
        <p:spPr>
          <a:xfrm>
            <a:off x="2514600" y="4925880"/>
            <a:ext cx="841320" cy="57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MARTPenAnnotation902"/>
          <p:cNvSpPr/>
          <p:nvPr/>
        </p:nvSpPr>
        <p:spPr>
          <a:xfrm>
            <a:off x="2720880" y="5087880"/>
            <a:ext cx="365400" cy="249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MARTPenAnnotation903"/>
          <p:cNvSpPr/>
          <p:nvPr/>
        </p:nvSpPr>
        <p:spPr>
          <a:xfrm>
            <a:off x="3165480" y="5121360"/>
            <a:ext cx="274680" cy="177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MARTPenAnnotation904"/>
          <p:cNvSpPr/>
          <p:nvPr/>
        </p:nvSpPr>
        <p:spPr>
          <a:xfrm>
            <a:off x="3160800" y="5143680"/>
            <a:ext cx="233280" cy="160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MARTPenAnnotation905"/>
          <p:cNvSpPr/>
          <p:nvPr/>
        </p:nvSpPr>
        <p:spPr>
          <a:xfrm>
            <a:off x="3692520" y="4950000"/>
            <a:ext cx="297000" cy="33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MARTPenAnnotation906"/>
          <p:cNvSpPr/>
          <p:nvPr/>
        </p:nvSpPr>
        <p:spPr>
          <a:xfrm>
            <a:off x="3828960" y="4857840"/>
            <a:ext cx="46080" cy="239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MARTPenAnnotation907"/>
          <p:cNvSpPr/>
          <p:nvPr/>
        </p:nvSpPr>
        <p:spPr>
          <a:xfrm>
            <a:off x="4103640" y="4572000"/>
            <a:ext cx="351000" cy="343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MARTPenAnnotation908"/>
          <p:cNvSpPr/>
          <p:nvPr/>
        </p:nvSpPr>
        <p:spPr>
          <a:xfrm>
            <a:off x="4229280" y="4732200"/>
            <a:ext cx="388800" cy="11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MARTPenAnnotation909"/>
          <p:cNvSpPr/>
          <p:nvPr/>
        </p:nvSpPr>
        <p:spPr>
          <a:xfrm>
            <a:off x="4035600" y="5018040"/>
            <a:ext cx="730080" cy="334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MARTPenAnnotation910"/>
          <p:cNvSpPr/>
          <p:nvPr/>
        </p:nvSpPr>
        <p:spPr>
          <a:xfrm>
            <a:off x="4114800" y="5143680"/>
            <a:ext cx="378000" cy="234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MARTPenAnnotation911"/>
          <p:cNvSpPr/>
          <p:nvPr/>
        </p:nvSpPr>
        <p:spPr>
          <a:xfrm>
            <a:off x="4525920" y="5165640"/>
            <a:ext cx="268200" cy="182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MARTPenAnnotation912"/>
          <p:cNvSpPr/>
          <p:nvPr/>
        </p:nvSpPr>
        <p:spPr>
          <a:xfrm>
            <a:off x="4492800" y="5178600"/>
            <a:ext cx="261720" cy="2044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MARTPenAnnotation913"/>
          <p:cNvSpPr/>
          <p:nvPr/>
        </p:nvSpPr>
        <p:spPr>
          <a:xfrm>
            <a:off x="857160" y="5407200"/>
            <a:ext cx="274680" cy="2044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MARTPenAnnotation914"/>
          <p:cNvSpPr/>
          <p:nvPr/>
        </p:nvSpPr>
        <p:spPr>
          <a:xfrm>
            <a:off x="765000" y="5703840"/>
            <a:ext cx="571680" cy="334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MARTPenAnnotation915"/>
          <p:cNvSpPr/>
          <p:nvPr/>
        </p:nvSpPr>
        <p:spPr>
          <a:xfrm>
            <a:off x="1039680" y="5784840"/>
            <a:ext cx="343080" cy="273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MARTPenAnnotation916"/>
          <p:cNvSpPr/>
          <p:nvPr/>
        </p:nvSpPr>
        <p:spPr>
          <a:xfrm>
            <a:off x="1406520" y="5565600"/>
            <a:ext cx="285840" cy="2415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MARTPenAnnotation917"/>
          <p:cNvSpPr/>
          <p:nvPr/>
        </p:nvSpPr>
        <p:spPr>
          <a:xfrm>
            <a:off x="1417680" y="5578560"/>
            <a:ext cx="160200" cy="193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MARTPenAnnotation918"/>
          <p:cNvSpPr/>
          <p:nvPr/>
        </p:nvSpPr>
        <p:spPr>
          <a:xfrm>
            <a:off x="1611360" y="5440320"/>
            <a:ext cx="217440" cy="1605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MARTPenAnnotation919"/>
          <p:cNvSpPr/>
          <p:nvPr/>
        </p:nvSpPr>
        <p:spPr>
          <a:xfrm>
            <a:off x="1989000" y="5783400"/>
            <a:ext cx="228600" cy="23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MARTPenAnnotation920"/>
          <p:cNvSpPr/>
          <p:nvPr/>
        </p:nvSpPr>
        <p:spPr>
          <a:xfrm>
            <a:off x="2114640" y="5703840"/>
            <a:ext cx="68040" cy="285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MARTPenAnnotation921"/>
          <p:cNvSpPr/>
          <p:nvPr/>
        </p:nvSpPr>
        <p:spPr>
          <a:xfrm>
            <a:off x="2457360" y="5611680"/>
            <a:ext cx="365040" cy="452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MARTPenAnnotation922"/>
          <p:cNvSpPr/>
          <p:nvPr/>
        </p:nvSpPr>
        <p:spPr>
          <a:xfrm>
            <a:off x="2925720" y="5749920"/>
            <a:ext cx="297000" cy="2970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MARTPenAnnotation923"/>
          <p:cNvSpPr/>
          <p:nvPr/>
        </p:nvSpPr>
        <p:spPr>
          <a:xfrm>
            <a:off x="2903400" y="5772240"/>
            <a:ext cx="262080" cy="307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MARTPenAnnotation924"/>
          <p:cNvSpPr/>
          <p:nvPr/>
        </p:nvSpPr>
        <p:spPr>
          <a:xfrm>
            <a:off x="3463920" y="5875200"/>
            <a:ext cx="330120" cy="11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MARTPenAnnotation925"/>
          <p:cNvSpPr/>
          <p:nvPr/>
        </p:nvSpPr>
        <p:spPr>
          <a:xfrm>
            <a:off x="3657600" y="5715000"/>
            <a:ext cx="22320" cy="285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MARTPenAnnotation926"/>
          <p:cNvSpPr/>
          <p:nvPr/>
        </p:nvSpPr>
        <p:spPr>
          <a:xfrm>
            <a:off x="4035600" y="5486400"/>
            <a:ext cx="214200" cy="411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MARTPenAnnotation927"/>
          <p:cNvSpPr/>
          <p:nvPr/>
        </p:nvSpPr>
        <p:spPr>
          <a:xfrm>
            <a:off x="3994200" y="5692680"/>
            <a:ext cx="371520" cy="334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MARTPenAnnotation928"/>
          <p:cNvSpPr/>
          <p:nvPr/>
        </p:nvSpPr>
        <p:spPr>
          <a:xfrm>
            <a:off x="3932280" y="5921280"/>
            <a:ext cx="525600" cy="334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MARTPenAnnotation929"/>
          <p:cNvSpPr/>
          <p:nvPr/>
        </p:nvSpPr>
        <p:spPr>
          <a:xfrm>
            <a:off x="3846600" y="6058080"/>
            <a:ext cx="233280" cy="320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MARTPenAnnotation930"/>
          <p:cNvSpPr/>
          <p:nvPr/>
        </p:nvSpPr>
        <p:spPr>
          <a:xfrm>
            <a:off x="4092480" y="6114960"/>
            <a:ext cx="171720" cy="239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MARTPenAnnotation931"/>
          <p:cNvSpPr/>
          <p:nvPr/>
        </p:nvSpPr>
        <p:spPr>
          <a:xfrm>
            <a:off x="4079880" y="6058080"/>
            <a:ext cx="195120" cy="3315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MARTPenAnnotation932"/>
          <p:cNvSpPr/>
          <p:nvPr/>
        </p:nvSpPr>
        <p:spPr>
          <a:xfrm>
            <a:off x="3178080" y="2149560"/>
            <a:ext cx="1695600" cy="44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MARTPenAnnotation933"/>
          <p:cNvSpPr/>
          <p:nvPr/>
        </p:nvSpPr>
        <p:spPr>
          <a:xfrm>
            <a:off x="3087720" y="2193840"/>
            <a:ext cx="1198440" cy="685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3T16:41:54Z</dcterms:created>
  <dc:creator>nuhs</dc:creator>
  <dc:description/>
  <dc:language>en-US</dc:language>
  <cp:lastModifiedBy>Ameena</cp:lastModifiedBy>
  <dcterms:modified xsi:type="dcterms:W3CDTF">2008-11-17T21:20:25Z</dcterms:modified>
  <cp:revision>21</cp:revision>
  <dc:subject/>
  <dc:title>4.4</dc:title>
</cp:coreProperties>
</file>